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485C-D9CA-48F7-A57A-620AEDF81D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: tamaño de gota. Y: distribución porcen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F61A-9ECA-41A1-ACC4-9FDE35A82D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49D-0D60-4B6E-A20F-701F3CC899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300-D46F-44EF-8D94-8C97A68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3D3-C712-4A7C-857D-E909EA1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8C3-9518-4A4E-910A-264B99FD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3F0-9662-46C8-9468-AFC12BDD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C992-67FE-46BF-B22F-F050849B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F876-3188-462D-A0EA-4D01C19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FAE8-AD2C-48D8-A497-EB1060F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D8A5-EB94-411E-8D10-5CEE870B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848C-0B6E-479C-9C1B-4D4BC945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DD46-0CD8-43B3-9B79-11FAA11B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F22E-FBA3-43BE-B938-0D74663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CCF-901F-4126-A03A-C35B3445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8A0C-EF14-45E1-8EE6-B99C654A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A2F8-9511-4C0F-A418-B9A6429E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E0CF-5461-42C4-9845-6FB7E0FD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E7A-C0C4-4A50-AFE1-2AAC8AB0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A69-2945-4ACE-8396-D40BFC35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9B43-C55F-4AD9-9065-9EC5E490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ECA2-D87E-47D4-B7A8-FDAA899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DFB3-A6D4-44D4-96C0-882076C2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C198-696B-480F-81F9-65CE895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C898-BB96-4E65-B16A-70F2E30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07D-B297-4011-BD02-272DF9B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CDB4-548F-458D-8996-1D4BC77E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2AE2-6B3C-4535-AF8A-A7CC3F9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05A9-EEC6-4132-8BA6-36DE751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A738-87CC-422B-8C81-2801A6C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ED6E-E975-4569-A086-C1F941F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52E7-2EAA-4137-8050-9A824C1D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1E35-68F6-4CC7-827A-2B015D47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7703E-E6BF-4A43-A8A2-39BC9822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1EA6-3F53-43C6-A3EE-C17D2A0B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75AD-6854-4ED5-A775-03F70BF6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8CB-5496-423B-8DDD-5E0EA22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165B-8898-4CAE-9A41-614F7097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A3A5-729E-47D5-8B4F-E918035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28A0-CC1E-4E65-A51B-298678DA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33DA-C4AB-482A-BB8C-B29B523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5688-42F0-492F-8FF2-D886464A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E7EA-5352-4D0D-A40D-1C02249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9E70-8FDF-41FC-86F6-27793AC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684C-B68A-4702-9ADB-457A71DA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60ED-34C7-4961-BE41-5FC60705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1A3-BEF2-4E23-890D-F492FBF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AE6-F3D5-4367-9C0B-5D64809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F9A-0784-46C1-9117-492BF8B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98E-981F-461B-81F1-33F53B4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9F9-CB15-4EFD-8670-57C80D4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8065-00E5-4D52-A10D-CBEEA8F44C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E8C-1285-4594-B6E7-AB23E36AA2A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AA9-FE59-4933-BDD4-F5409AA5FDD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4263-6972-42C4-AA92-07FBE7F4A3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Constantia"/>
              </a:rPr>
              <a:t>Malezas 201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www.teejet.com/admin/ImageGen.aspx?image=/media/56504/TJVSSpray.jpg&amp;height=300&amp;%20border=0"/>
          <p:cNvPicPr/>
          <p:nvPr/>
        </p:nvPicPr>
        <p:blipFill>
          <a:blip r:embed="rId1"/>
          <a:stretch/>
        </p:blipFill>
        <p:spPr>
          <a:xfrm>
            <a:off x="1447920" y="68400"/>
            <a:ext cx="678168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21477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77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62120" y="1397160"/>
          <a:ext cx="7619760" cy="3978000"/>
        </p:xfrm>
        <a:graphic>
          <a:graphicData uri="http://schemas.openxmlformats.org/drawingml/2006/table">
            <a:tbl>
              <a:tblPr/>
              <a:tblGrid>
                <a:gridCol w="1442880"/>
                <a:gridCol w="1752480"/>
                <a:gridCol w="1376640"/>
                <a:gridCol w="152388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maño de gota (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μ</a:t>
                      </a: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ntidad/sup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iempo de caída (3 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riva (1.5 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riva (8 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0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5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7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3" name="TextBox 2"/>
          <p:cNvSpPr/>
          <p:nvPr/>
        </p:nvSpPr>
        <p:spPr>
          <a:xfrm>
            <a:off x="847800" y="563868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*gotas por pulgada cuadrada al pulverizar 10 l/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3047040" y="6400800"/>
            <a:ext cx="56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uente: Ross y Lembi, 1999. Applied Wee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Tamaño de gota según la presió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1486440" y="6488280"/>
            <a:ext cx="78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uente: Thiesen y Ruedell, 2004. Tecnologia de aplicacao de herb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Impactos neces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re-siembra o pre-emergente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20-3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OST de contacto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40-5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OST sistémico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20-3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Insecticidas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20-3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Fungicidas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50-7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4617b"/>
                </a:solidFill>
                <a:latin typeface="Calibri"/>
              </a:rPr>
              <a:t>Volumen de aplicación obtenido con una pulverización constante de 50 gotas/cm</a:t>
            </a:r>
            <a:r>
              <a:rPr b="0" lang="es-AR" sz="3600" spc="-1" strike="noStrike" baseline="30000">
                <a:solidFill>
                  <a:srgbClr val="04617b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2209680"/>
          <a:ext cx="5618160" cy="3343320"/>
        </p:xfrm>
        <a:graphic>
          <a:graphicData uri="http://schemas.openxmlformats.org/drawingml/2006/table">
            <a:tbl>
              <a:tblPr/>
              <a:tblGrid>
                <a:gridCol w="2739240"/>
                <a:gridCol w="2663280"/>
                <a:gridCol w="21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maño de g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olumen (l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 (nebl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 (lloviz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0 (lluvia f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7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82" name="TextBox 4"/>
          <p:cNvSpPr/>
          <p:nvPr/>
        </p:nvSpPr>
        <p:spPr>
          <a:xfrm>
            <a:off x="1295280" y="5867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odificado de: Mársico, O.J.V. 1980. Herbicidas  y fundamentos de control de  male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Tamaño y volumen de las go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La cantidad de impactos no nos dice nada sobre el volumen to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iámetro medio numérico (DMN) y Diámetro medio volumétrico (DMV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MN = divide el número de gotas en partes ig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MV = divide el volumen de gotas en partes ig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0"/>
          <p:cNvGrpSpPr/>
          <p:nvPr/>
        </p:nvGrpSpPr>
        <p:grpSpPr>
          <a:xfrm>
            <a:off x="1981440" y="2819520"/>
            <a:ext cx="5368320" cy="1586880"/>
            <a:chOff x="1981440" y="2819520"/>
            <a:chExt cx="5368320" cy="1586880"/>
          </a:xfrm>
        </p:grpSpPr>
        <p:sp>
          <p:nvSpPr>
            <p:cNvPr id="286" name="TextBox 1"/>
            <p:cNvSpPr/>
            <p:nvPr/>
          </p:nvSpPr>
          <p:spPr>
            <a:xfrm>
              <a:off x="1981440" y="2971800"/>
              <a:ext cx="5368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2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2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28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36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4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4400" spc="-1" strike="noStrike">
                  <a:solidFill>
                    <a:srgbClr val="ff0000"/>
                  </a:solidFill>
                  <a:latin typeface="Constantia"/>
                </a:rPr>
                <a:t>o</a:t>
              </a:r>
              <a:r>
                <a:rPr b="0" lang="es-AR" sz="48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5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6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66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7200" spc="-1" strike="noStrike">
                  <a:solidFill>
                    <a:srgbClr val="92d050"/>
                  </a:solidFill>
                  <a:latin typeface="Constantia"/>
                </a:rPr>
                <a:t>o</a:t>
              </a:r>
              <a:r>
                <a:rPr b="0" lang="es-AR" sz="8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88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Straight Arrow Connector 3"/>
            <p:cNvCxnSpPr/>
            <p:nvPr/>
          </p:nvCxnSpPr>
          <p:spPr>
            <a:xfrm flipV="1">
              <a:off x="3592440" y="3276360"/>
              <a:ext cx="3600" cy="38160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288" name="TextBox 4"/>
            <p:cNvSpPr/>
            <p:nvPr/>
          </p:nvSpPr>
          <p:spPr>
            <a:xfrm>
              <a:off x="3211560" y="297180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onstantia"/>
                </a:rPr>
                <a:t>D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Straight Arrow Connector 6"/>
            <p:cNvCxnSpPr/>
            <p:nvPr/>
          </p:nvCxnSpPr>
          <p:spPr>
            <a:xfrm flipV="1">
              <a:off x="5610240" y="3200040"/>
              <a:ext cx="2160" cy="30528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290" name="TextBox 7"/>
            <p:cNvSpPr/>
            <p:nvPr/>
          </p:nvSpPr>
          <p:spPr>
            <a:xfrm>
              <a:off x="5227560" y="28195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onstantia"/>
                </a:rPr>
                <a:t>DM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8"/>
          <p:cNvSpPr/>
          <p:nvPr/>
        </p:nvSpPr>
        <p:spPr>
          <a:xfrm>
            <a:off x="3364200" y="1523880"/>
            <a:ext cx="308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DMV/DMN=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Todas las gotas son ig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2626560" y="541008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DMV/DMN=Coeficiente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Cuanto mayor el índice, mayor la des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Variables: pres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l aumento de caudal es proporcional a la raíz cuadrada del aumento de la 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Vol. 2/Vol 1 = √(P2/P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Si quiero duplicar el volumen tengo que cuadruplicar la 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Los picos funcionan bien dentro de un rango de presión bien defi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l aumentar la presión aumenta la proporción de gotas mas pequeñas (deriva, evapor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La presión depende de la bomb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Tipos de bom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Centrífug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Barata, apta para distintas formulaciones, 5-6 ba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Turb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Similar  a la centrífuga, trabaja mejor a bajas RP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De rodil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Alcanza alta presión (+10), pero es susceptible al desgas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De pist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Cara, volumen constante, aptas para todas las formulacio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De diafrag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Pulverizado o asperj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s la puesta en contacto del plaguicida debidamente acondicionado (caldo) con el objetivo bl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s un proceso complejo y delicado, de su correcta ejecución depende que el plaguicida ofrezca el resultado dese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stá influenciado por factores dentro y fuera de nuestro c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Controlables: calidad de agua, tamaño de gota, caud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No controlables: HR, T, vi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Ahora determinamos el volumen de aplicació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l ancho de labor en general está “fij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alibramos la presión en función del caudal deseado para los picos seleccion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0.8 l/min x 20 picos a 0.5 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La velocidad de avance es la última vari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6 km/h = 100 m/m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ncho de labor x distancia (10 x 100 = 1.000 m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16 l/min; 16 l en 1.000 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160 l/h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4 Imagen" descr="dibujo.jpg"/>
          <p:cNvPicPr/>
          <p:nvPr/>
        </p:nvPicPr>
        <p:blipFill>
          <a:blip r:embed="rId1"/>
          <a:stretch/>
        </p:blipFill>
        <p:spPr>
          <a:xfrm>
            <a:off x="2819520" y="0"/>
            <a:ext cx="3504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2"/>
          <p:cNvSpPr/>
          <p:nvPr/>
        </p:nvSpPr>
        <p:spPr>
          <a:xfrm>
            <a:off x="1092240" y="2057400"/>
            <a:ext cx="5078880" cy="82548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l/Min (por pico) =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onstantia"/>
              </a:rPr>
              <a:t>l/ha x Km/h x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6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2453400" y="3352680"/>
            <a:ext cx="3167640" cy="82548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l/ha =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onstantia"/>
              </a:rPr>
              <a:t>60.000 x l/min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Km/h x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846600" y="4800600"/>
            <a:ext cx="3441960" cy="82548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Km/h =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onstantia"/>
              </a:rPr>
              <a:t>distancia x 3,6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tiempo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320840" y="594360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nstantia"/>
              </a:rPr>
              <a:t>W = distancia entre los picos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Factores no control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Temperatu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Humedad rel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V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04617b"/>
                </a:solidFill>
                <a:latin typeface="Calibri"/>
              </a:rPr>
              <a:t>Cuando se mide caudal por pico, deben medirse vario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4" descr="Caudal por pico"/>
          <p:cNvPicPr/>
          <p:nvPr/>
        </p:nvPicPr>
        <p:blipFill>
          <a:blip r:embed="rId1"/>
          <a:stretch/>
        </p:blipFill>
        <p:spPr>
          <a:xfrm>
            <a:off x="533520" y="19782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914400" y="1397160"/>
          <a:ext cx="7162920" cy="370836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  <a:gridCol w="716040"/>
                <a:gridCol w="716040"/>
                <a:gridCol w="717480"/>
                <a:gridCol w="716040"/>
                <a:gridCol w="716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10" name="TextBox 2"/>
          <p:cNvSpPr/>
          <p:nvPr/>
        </p:nvSpPr>
        <p:spPr>
          <a:xfrm>
            <a:off x="3207240" y="990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Temperatura (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rot="16200000">
            <a:off x="-745200" y="307728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Humedad Relativa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1333800" y="6248520"/>
            <a:ext cx="78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uente: Thiesen y Ruedell, 2004. Tecnologia de aplicacao de herb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Altura de aplic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epende del ángulo de los p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80°, 50 cm del obje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PI, P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50 cm del sue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50 cm de las malez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http://www.teejet.com/media/148400/spray-overlap_spanish.jpg"/>
          <p:cNvPicPr/>
          <p:nvPr/>
        </p:nvPicPr>
        <p:blipFill>
          <a:blip r:embed="rId1"/>
          <a:stretch/>
        </p:blipFill>
        <p:spPr>
          <a:xfrm>
            <a:off x="838080" y="1981080"/>
            <a:ext cx="2730600" cy="819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www.teejet.com/media/148400/spray-overlap_spanish.jpg"/>
          <p:cNvPicPr/>
          <p:nvPr/>
        </p:nvPicPr>
        <p:blipFill>
          <a:blip r:embed="rId2"/>
          <a:stretch/>
        </p:blipFill>
        <p:spPr>
          <a:xfrm>
            <a:off x="5029200" y="3581280"/>
            <a:ext cx="2730600" cy="819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teejet.com/media/148400/spray-overlap_spanish.jpg"/>
          <p:cNvPicPr/>
          <p:nvPr/>
        </p:nvPicPr>
        <p:blipFill>
          <a:blip r:embed="rId3"/>
          <a:stretch/>
        </p:blipFill>
        <p:spPr>
          <a:xfrm>
            <a:off x="1371600" y="5029200"/>
            <a:ext cx="2730600" cy="819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1744920" y="15238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708120" y="2762280"/>
            <a:ext cx="2419200" cy="81000"/>
          </a:xfrm>
          <a:custGeom>
            <a:avLst/>
            <a:gdLst/>
            <a:ahLst/>
            <a:rect l="l" t="t" r="r" b="b"/>
            <a:pathLst>
              <a:path w="2418503" h="82296">
                <a:moveTo>
                  <a:pt x="13631" y="45720"/>
                </a:moveTo>
                <a:cubicBezTo>
                  <a:pt x="75606" y="66378"/>
                  <a:pt x="0" y="45720"/>
                  <a:pt x="105071" y="45720"/>
                </a:cubicBezTo>
                <a:cubicBezTo>
                  <a:pt x="141774" y="45720"/>
                  <a:pt x="178223" y="51816"/>
                  <a:pt x="214799" y="54864"/>
                </a:cubicBezTo>
                <a:cubicBezTo>
                  <a:pt x="226991" y="57912"/>
                  <a:pt x="238808" y="64008"/>
                  <a:pt x="251375" y="64008"/>
                </a:cubicBezTo>
                <a:cubicBezTo>
                  <a:pt x="263942" y="64008"/>
                  <a:pt x="275510" y="53087"/>
                  <a:pt x="287951" y="54864"/>
                </a:cubicBezTo>
                <a:cubicBezTo>
                  <a:pt x="298830" y="56418"/>
                  <a:pt x="305093" y="69293"/>
                  <a:pt x="315383" y="73152"/>
                </a:cubicBezTo>
                <a:cubicBezTo>
                  <a:pt x="329935" y="78609"/>
                  <a:pt x="345863" y="79248"/>
                  <a:pt x="361103" y="82296"/>
                </a:cubicBezTo>
                <a:cubicBezTo>
                  <a:pt x="405190" y="79541"/>
                  <a:pt x="505014" y="78322"/>
                  <a:pt x="562271" y="64008"/>
                </a:cubicBezTo>
                <a:cubicBezTo>
                  <a:pt x="580973" y="59333"/>
                  <a:pt x="598847" y="51816"/>
                  <a:pt x="617135" y="45720"/>
                </a:cubicBezTo>
                <a:lnTo>
                  <a:pt x="644567" y="36576"/>
                </a:lnTo>
                <a:cubicBezTo>
                  <a:pt x="732084" y="65748"/>
                  <a:pt x="648562" y="40635"/>
                  <a:pt x="854879" y="54864"/>
                </a:cubicBezTo>
                <a:cubicBezTo>
                  <a:pt x="882414" y="56763"/>
                  <a:pt x="909743" y="60960"/>
                  <a:pt x="937175" y="64008"/>
                </a:cubicBezTo>
                <a:cubicBezTo>
                  <a:pt x="1007279" y="60960"/>
                  <a:pt x="1077689" y="62084"/>
                  <a:pt x="1147487" y="54864"/>
                </a:cubicBezTo>
                <a:cubicBezTo>
                  <a:pt x="1166662" y="52880"/>
                  <a:pt x="1202351" y="36576"/>
                  <a:pt x="1202351" y="36576"/>
                </a:cubicBezTo>
                <a:cubicBezTo>
                  <a:pt x="1208447" y="27432"/>
                  <a:pt x="1211495" y="15240"/>
                  <a:pt x="1220639" y="9144"/>
                </a:cubicBezTo>
                <a:cubicBezTo>
                  <a:pt x="1231096" y="2173"/>
                  <a:pt x="1244648" y="0"/>
                  <a:pt x="1257215" y="0"/>
                </a:cubicBezTo>
                <a:cubicBezTo>
                  <a:pt x="1309121" y="0"/>
                  <a:pt x="1360847" y="6096"/>
                  <a:pt x="1412663" y="9144"/>
                </a:cubicBezTo>
                <a:cubicBezTo>
                  <a:pt x="1424855" y="12192"/>
                  <a:pt x="1437202" y="14677"/>
                  <a:pt x="1449239" y="18288"/>
                </a:cubicBezTo>
                <a:cubicBezTo>
                  <a:pt x="1467703" y="23827"/>
                  <a:pt x="1504103" y="36576"/>
                  <a:pt x="1504103" y="36576"/>
                </a:cubicBezTo>
                <a:cubicBezTo>
                  <a:pt x="1531535" y="33528"/>
                  <a:pt x="1558798" y="27432"/>
                  <a:pt x="1586399" y="27432"/>
                </a:cubicBezTo>
                <a:cubicBezTo>
                  <a:pt x="1598966" y="27432"/>
                  <a:pt x="1610652" y="34111"/>
                  <a:pt x="1622975" y="36576"/>
                </a:cubicBezTo>
                <a:cubicBezTo>
                  <a:pt x="1711361" y="54253"/>
                  <a:pt x="1645230" y="37297"/>
                  <a:pt x="1741847" y="54864"/>
                </a:cubicBezTo>
                <a:cubicBezTo>
                  <a:pt x="1754212" y="57112"/>
                  <a:pt x="1766231" y="60960"/>
                  <a:pt x="1778423" y="64008"/>
                </a:cubicBezTo>
                <a:cubicBezTo>
                  <a:pt x="1824143" y="60960"/>
                  <a:pt x="1870042" y="59924"/>
                  <a:pt x="1915583" y="54864"/>
                </a:cubicBezTo>
                <a:cubicBezTo>
                  <a:pt x="1925163" y="53800"/>
                  <a:pt x="1933488" y="47186"/>
                  <a:pt x="1943015" y="45720"/>
                </a:cubicBezTo>
                <a:cubicBezTo>
                  <a:pt x="1973291" y="41062"/>
                  <a:pt x="2003975" y="39624"/>
                  <a:pt x="2034455" y="36576"/>
                </a:cubicBezTo>
                <a:cubicBezTo>
                  <a:pt x="2046647" y="33528"/>
                  <a:pt x="2058947" y="30884"/>
                  <a:pt x="2071031" y="27432"/>
                </a:cubicBezTo>
                <a:cubicBezTo>
                  <a:pt x="2080299" y="24784"/>
                  <a:pt x="2088824" y="18288"/>
                  <a:pt x="2098463" y="18288"/>
                </a:cubicBezTo>
                <a:cubicBezTo>
                  <a:pt x="2150690" y="18288"/>
                  <a:pt x="2164854" y="26945"/>
                  <a:pt x="2208191" y="36576"/>
                </a:cubicBezTo>
                <a:cubicBezTo>
                  <a:pt x="2223363" y="39947"/>
                  <a:pt x="2238917" y="41631"/>
                  <a:pt x="2253911" y="45720"/>
                </a:cubicBezTo>
                <a:cubicBezTo>
                  <a:pt x="2272509" y="50792"/>
                  <a:pt x="2290487" y="57912"/>
                  <a:pt x="2308775" y="64008"/>
                </a:cubicBezTo>
                <a:lnTo>
                  <a:pt x="2336207" y="73152"/>
                </a:lnTo>
                <a:cubicBezTo>
                  <a:pt x="2345351" y="76200"/>
                  <a:pt x="2354000" y="82296"/>
                  <a:pt x="2363639" y="82296"/>
                </a:cubicBezTo>
                <a:lnTo>
                  <a:pt x="2418503" y="82296"/>
                </a:lnTo>
              </a:path>
            </a:pathLst>
          </a:custGeom>
          <a:noFill/>
          <a:ln w="2844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5045040" y="4786200"/>
            <a:ext cx="2398680" cy="108000"/>
          </a:xfrm>
          <a:custGeom>
            <a:avLst/>
            <a:gdLst/>
            <a:ahLst/>
            <a:rect l="l" t="t" r="r" b="b"/>
            <a:pathLst>
              <a:path w="2398956" h="108235">
                <a:moveTo>
                  <a:pt x="0" y="54447"/>
                </a:moveTo>
                <a:cubicBezTo>
                  <a:pt x="10758" y="50861"/>
                  <a:pt x="21204" y="46150"/>
                  <a:pt x="32273" y="43690"/>
                </a:cubicBezTo>
                <a:cubicBezTo>
                  <a:pt x="228883" y="0"/>
                  <a:pt x="598625" y="42225"/>
                  <a:pt x="677732" y="43690"/>
                </a:cubicBezTo>
                <a:cubicBezTo>
                  <a:pt x="949900" y="77709"/>
                  <a:pt x="611193" y="43690"/>
                  <a:pt x="828339" y="43690"/>
                </a:cubicBezTo>
                <a:cubicBezTo>
                  <a:pt x="892985" y="43690"/>
                  <a:pt x="957431" y="50861"/>
                  <a:pt x="1021977" y="54447"/>
                </a:cubicBezTo>
                <a:lnTo>
                  <a:pt x="1086523" y="65205"/>
                </a:lnTo>
                <a:cubicBezTo>
                  <a:pt x="1111584" y="69060"/>
                  <a:pt x="1137771" y="67944"/>
                  <a:pt x="1161826" y="75962"/>
                </a:cubicBezTo>
                <a:cubicBezTo>
                  <a:pt x="1171448" y="79169"/>
                  <a:pt x="1174645" y="92260"/>
                  <a:pt x="1183342" y="97478"/>
                </a:cubicBezTo>
                <a:cubicBezTo>
                  <a:pt x="1193066" y="103312"/>
                  <a:pt x="1204857" y="104649"/>
                  <a:pt x="1215615" y="108235"/>
                </a:cubicBezTo>
                <a:cubicBezTo>
                  <a:pt x="1294504" y="104649"/>
                  <a:pt x="1373564" y="103775"/>
                  <a:pt x="1452283" y="97478"/>
                </a:cubicBezTo>
                <a:cubicBezTo>
                  <a:pt x="1463586" y="96574"/>
                  <a:pt x="1473228" y="87235"/>
                  <a:pt x="1484556" y="86720"/>
                </a:cubicBezTo>
                <a:cubicBezTo>
                  <a:pt x="1631469" y="80042"/>
                  <a:pt x="1778598" y="79548"/>
                  <a:pt x="1925619" y="75962"/>
                </a:cubicBezTo>
                <a:cubicBezTo>
                  <a:pt x="1954306" y="72376"/>
                  <a:pt x="1983510" y="71706"/>
                  <a:pt x="2011680" y="65205"/>
                </a:cubicBezTo>
                <a:cubicBezTo>
                  <a:pt x="2030496" y="60863"/>
                  <a:pt x="2047388" y="50470"/>
                  <a:pt x="2065469" y="43690"/>
                </a:cubicBezTo>
                <a:cubicBezTo>
                  <a:pt x="2076087" y="39708"/>
                  <a:pt x="2086984" y="36518"/>
                  <a:pt x="2097742" y="32932"/>
                </a:cubicBezTo>
                <a:cubicBezTo>
                  <a:pt x="2377432" y="44120"/>
                  <a:pt x="2276964" y="43690"/>
                  <a:pt x="2398956" y="43690"/>
                </a:cubicBezTo>
              </a:path>
            </a:pathLst>
          </a:custGeom>
          <a:noFill/>
          <a:ln w="2844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5370480" y="4400640"/>
            <a:ext cx="115920" cy="488880"/>
          </a:xfrm>
          <a:custGeom>
            <a:avLst/>
            <a:gdLst/>
            <a:ahLst/>
            <a:rect l="l" t="t" r="r" b="b"/>
            <a:pathLst>
              <a:path w="116342" h="490202">
                <a:moveTo>
                  <a:pt x="30281" y="408790"/>
                </a:moveTo>
                <a:cubicBezTo>
                  <a:pt x="75602" y="272819"/>
                  <a:pt x="0" y="490202"/>
                  <a:pt x="62554" y="344244"/>
                </a:cubicBezTo>
                <a:cubicBezTo>
                  <a:pt x="68378" y="330655"/>
                  <a:pt x="69249" y="315430"/>
                  <a:pt x="73311" y="301214"/>
                </a:cubicBezTo>
                <a:cubicBezTo>
                  <a:pt x="76426" y="290311"/>
                  <a:pt x="80954" y="279844"/>
                  <a:pt x="84069" y="268941"/>
                </a:cubicBezTo>
                <a:cubicBezTo>
                  <a:pt x="88131" y="254725"/>
                  <a:pt x="90579" y="240072"/>
                  <a:pt x="94827" y="225910"/>
                </a:cubicBezTo>
                <a:cubicBezTo>
                  <a:pt x="101344" y="204187"/>
                  <a:pt x="116342" y="184043"/>
                  <a:pt x="116342" y="161364"/>
                </a:cubicBezTo>
                <a:lnTo>
                  <a:pt x="116342" y="0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6024600" y="4354560"/>
            <a:ext cx="88920" cy="465120"/>
          </a:xfrm>
          <a:custGeom>
            <a:avLst/>
            <a:gdLst/>
            <a:ahLst/>
            <a:rect l="l" t="t" r="r" b="b"/>
            <a:pathLst>
              <a:path w="88598" h="464504">
                <a:moveTo>
                  <a:pt x="0" y="464504"/>
                </a:moveTo>
                <a:cubicBezTo>
                  <a:pt x="20109" y="404179"/>
                  <a:pt x="8008" y="443232"/>
                  <a:pt x="32273" y="346170"/>
                </a:cubicBezTo>
                <a:lnTo>
                  <a:pt x="53789" y="260109"/>
                </a:lnTo>
                <a:cubicBezTo>
                  <a:pt x="57375" y="213492"/>
                  <a:pt x="55377" y="166105"/>
                  <a:pt x="64546" y="120259"/>
                </a:cubicBezTo>
                <a:cubicBezTo>
                  <a:pt x="88598" y="0"/>
                  <a:pt x="86062" y="142902"/>
                  <a:pt x="86062" y="87986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6734160" y="4443480"/>
            <a:ext cx="360" cy="407880"/>
          </a:xfrm>
          <a:custGeom>
            <a:avLst/>
            <a:gdLst/>
            <a:ahLst/>
            <a:rect l="l" t="t" r="r" b="b"/>
            <a:pathLst>
              <a:path w="0" h="408791">
                <a:moveTo>
                  <a:pt x="0" y="4087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7207200" y="4432320"/>
            <a:ext cx="65160" cy="398520"/>
          </a:xfrm>
          <a:custGeom>
            <a:avLst/>
            <a:gdLst/>
            <a:ahLst/>
            <a:rect l="l" t="t" r="r" b="b"/>
            <a:pathLst>
              <a:path w="65250" h="398033">
                <a:moveTo>
                  <a:pt x="705" y="398033"/>
                </a:moveTo>
                <a:cubicBezTo>
                  <a:pt x="4291" y="326315"/>
                  <a:pt x="6983" y="254547"/>
                  <a:pt x="11462" y="182880"/>
                </a:cubicBezTo>
                <a:cubicBezTo>
                  <a:pt x="17511" y="86096"/>
                  <a:pt x="0" y="76184"/>
                  <a:pt x="43735" y="21515"/>
                </a:cubicBezTo>
                <a:cubicBezTo>
                  <a:pt x="50071" y="13595"/>
                  <a:pt x="58078" y="7172"/>
                  <a:pt x="65250" y="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5475240" y="4597560"/>
            <a:ext cx="204840" cy="69840"/>
          </a:xfrm>
          <a:custGeom>
            <a:avLst/>
            <a:gdLst/>
            <a:ahLst/>
            <a:rect l="l" t="t" r="r" b="b"/>
            <a:pathLst>
              <a:path w="204846" h="70763">
                <a:moveTo>
                  <a:pt x="0" y="50684"/>
                </a:moveTo>
                <a:cubicBezTo>
                  <a:pt x="60242" y="70763"/>
                  <a:pt x="4304" y="59290"/>
                  <a:pt x="64546" y="50684"/>
                </a:cubicBezTo>
                <a:cubicBezTo>
                  <a:pt x="103755" y="45083"/>
                  <a:pt x="143435" y="43512"/>
                  <a:pt x="182880" y="39926"/>
                </a:cubicBezTo>
                <a:cubicBezTo>
                  <a:pt x="186466" y="29168"/>
                  <a:pt x="204846" y="9377"/>
                  <a:pt x="193638" y="7653"/>
                </a:cubicBezTo>
                <a:cubicBezTo>
                  <a:pt x="143893" y="0"/>
                  <a:pt x="93017" y="12530"/>
                  <a:pt x="43031" y="18411"/>
                </a:cubicBezTo>
                <a:cubicBezTo>
                  <a:pt x="31769" y="19736"/>
                  <a:pt x="18776" y="21150"/>
                  <a:pt x="10758" y="29168"/>
                </a:cubicBezTo>
                <a:lnTo>
                  <a:pt x="0" y="50684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5292720" y="4290840"/>
            <a:ext cx="222120" cy="103320"/>
          </a:xfrm>
          <a:custGeom>
            <a:avLst/>
            <a:gdLst/>
            <a:ahLst/>
            <a:rect l="l" t="t" r="r" b="b"/>
            <a:pathLst>
              <a:path w="222224" h="101957">
                <a:moveTo>
                  <a:pt x="193537" y="97360"/>
                </a:moveTo>
                <a:cubicBezTo>
                  <a:pt x="222224" y="100946"/>
                  <a:pt x="190038" y="73798"/>
                  <a:pt x="182779" y="65087"/>
                </a:cubicBezTo>
                <a:cubicBezTo>
                  <a:pt x="171301" y="51313"/>
                  <a:pt x="153523" y="44292"/>
                  <a:pt x="139749" y="32814"/>
                </a:cubicBezTo>
                <a:cubicBezTo>
                  <a:pt x="100372" y="0"/>
                  <a:pt x="138859" y="18175"/>
                  <a:pt x="85961" y="541"/>
                </a:cubicBezTo>
                <a:cubicBezTo>
                  <a:pt x="64446" y="4127"/>
                  <a:pt x="40353" y="477"/>
                  <a:pt x="21415" y="11299"/>
                </a:cubicBezTo>
                <a:cubicBezTo>
                  <a:pt x="11569" y="16925"/>
                  <a:pt x="0" y="39697"/>
                  <a:pt x="10657" y="43572"/>
                </a:cubicBezTo>
                <a:cubicBezTo>
                  <a:pt x="171219" y="101957"/>
                  <a:pt x="164850" y="93774"/>
                  <a:pt x="193537" y="9736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5494320" y="4400640"/>
            <a:ext cx="169920" cy="100080"/>
          </a:xfrm>
          <a:custGeom>
            <a:avLst/>
            <a:gdLst/>
            <a:ahLst/>
            <a:rect l="l" t="t" r="r" b="b"/>
            <a:pathLst>
              <a:path w="170021" h="100404">
                <a:moveTo>
                  <a:pt x="3586" y="96818"/>
                </a:moveTo>
                <a:cubicBezTo>
                  <a:pt x="0" y="93232"/>
                  <a:pt x="17025" y="74642"/>
                  <a:pt x="25101" y="64546"/>
                </a:cubicBezTo>
                <a:cubicBezTo>
                  <a:pt x="31437" y="56626"/>
                  <a:pt x="41398" y="51727"/>
                  <a:pt x="46616" y="43030"/>
                </a:cubicBezTo>
                <a:cubicBezTo>
                  <a:pt x="52450" y="33306"/>
                  <a:pt x="49356" y="18775"/>
                  <a:pt x="57374" y="10757"/>
                </a:cubicBezTo>
                <a:cubicBezTo>
                  <a:pt x="65392" y="2739"/>
                  <a:pt x="78889" y="3586"/>
                  <a:pt x="89647" y="0"/>
                </a:cubicBezTo>
                <a:cubicBezTo>
                  <a:pt x="103990" y="3586"/>
                  <a:pt x="118461" y="6695"/>
                  <a:pt x="132677" y="10757"/>
                </a:cubicBezTo>
                <a:cubicBezTo>
                  <a:pt x="143580" y="13872"/>
                  <a:pt x="159879" y="11373"/>
                  <a:pt x="164950" y="21515"/>
                </a:cubicBezTo>
                <a:cubicBezTo>
                  <a:pt x="170021" y="31657"/>
                  <a:pt x="164555" y="49183"/>
                  <a:pt x="154193" y="53788"/>
                </a:cubicBezTo>
                <a:cubicBezTo>
                  <a:pt x="127775" y="65530"/>
                  <a:pt x="96819" y="60960"/>
                  <a:pt x="68132" y="64546"/>
                </a:cubicBezTo>
                <a:cubicBezTo>
                  <a:pt x="60960" y="71718"/>
                  <a:pt x="55313" y="80843"/>
                  <a:pt x="46616" y="86061"/>
                </a:cubicBezTo>
                <a:cubicBezTo>
                  <a:pt x="26797" y="97952"/>
                  <a:pt x="7172" y="100404"/>
                  <a:pt x="3586" y="96818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6097680" y="4335480"/>
            <a:ext cx="220680" cy="98280"/>
          </a:xfrm>
          <a:custGeom>
            <a:avLst/>
            <a:gdLst/>
            <a:ahLst/>
            <a:rect l="l" t="t" r="r" b="b"/>
            <a:pathLst>
              <a:path w="220153" h="98613">
                <a:moveTo>
                  <a:pt x="1793" y="96820"/>
                </a:moveTo>
                <a:cubicBezTo>
                  <a:pt x="3586" y="98613"/>
                  <a:pt x="14894" y="74363"/>
                  <a:pt x="23308" y="64547"/>
                </a:cubicBezTo>
                <a:cubicBezTo>
                  <a:pt x="36509" y="49145"/>
                  <a:pt x="46660" y="26436"/>
                  <a:pt x="66339" y="21516"/>
                </a:cubicBezTo>
                <a:cubicBezTo>
                  <a:pt x="133968" y="4608"/>
                  <a:pt x="94733" y="12849"/>
                  <a:pt x="184673" y="1"/>
                </a:cubicBezTo>
                <a:cubicBezTo>
                  <a:pt x="195431" y="3587"/>
                  <a:pt x="213360" y="0"/>
                  <a:pt x="216946" y="10758"/>
                </a:cubicBezTo>
                <a:cubicBezTo>
                  <a:pt x="220153" y="20380"/>
                  <a:pt x="205271" y="29814"/>
                  <a:pt x="195431" y="32274"/>
                </a:cubicBezTo>
                <a:cubicBezTo>
                  <a:pt x="160469" y="41014"/>
                  <a:pt x="123645" y="38820"/>
                  <a:pt x="87854" y="43031"/>
                </a:cubicBezTo>
                <a:cubicBezTo>
                  <a:pt x="62672" y="45994"/>
                  <a:pt x="37303" y="48288"/>
                  <a:pt x="12551" y="53789"/>
                </a:cubicBezTo>
                <a:cubicBezTo>
                  <a:pt x="4723" y="55529"/>
                  <a:pt x="0" y="95027"/>
                  <a:pt x="1793" y="9682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5896080" y="4410000"/>
            <a:ext cx="210960" cy="179640"/>
          </a:xfrm>
          <a:custGeom>
            <a:avLst/>
            <a:gdLst/>
            <a:ahLst/>
            <a:rect l="l" t="t" r="r" b="b"/>
            <a:pathLst>
              <a:path w="211566" h="178211">
                <a:moveTo>
                  <a:pt x="193637" y="161365"/>
                </a:moveTo>
                <a:cubicBezTo>
                  <a:pt x="211566" y="155986"/>
                  <a:pt x="177904" y="140656"/>
                  <a:pt x="172122" y="129092"/>
                </a:cubicBezTo>
                <a:cubicBezTo>
                  <a:pt x="167051" y="118950"/>
                  <a:pt x="168448" y="105674"/>
                  <a:pt x="161364" y="96819"/>
                </a:cubicBezTo>
                <a:cubicBezTo>
                  <a:pt x="153287" y="86723"/>
                  <a:pt x="139849" y="82476"/>
                  <a:pt x="129091" y="75304"/>
                </a:cubicBezTo>
                <a:cubicBezTo>
                  <a:pt x="109463" y="45861"/>
                  <a:pt x="109275" y="36615"/>
                  <a:pt x="75303" y="21516"/>
                </a:cubicBezTo>
                <a:cubicBezTo>
                  <a:pt x="54578" y="12305"/>
                  <a:pt x="10757" y="0"/>
                  <a:pt x="10757" y="0"/>
                </a:cubicBezTo>
                <a:cubicBezTo>
                  <a:pt x="7171" y="10758"/>
                  <a:pt x="0" y="20933"/>
                  <a:pt x="0" y="32273"/>
                </a:cubicBezTo>
                <a:cubicBezTo>
                  <a:pt x="0" y="61183"/>
                  <a:pt x="2450" y="90643"/>
                  <a:pt x="10757" y="118334"/>
                </a:cubicBezTo>
                <a:cubicBezTo>
                  <a:pt x="13671" y="128049"/>
                  <a:pt x="24353" y="133514"/>
                  <a:pt x="32273" y="139850"/>
                </a:cubicBezTo>
                <a:cubicBezTo>
                  <a:pt x="42369" y="147927"/>
                  <a:pt x="52662" y="156272"/>
                  <a:pt x="64545" y="161365"/>
                </a:cubicBezTo>
                <a:cubicBezTo>
                  <a:pt x="103852" y="178211"/>
                  <a:pt x="175708" y="166744"/>
                  <a:pt x="193637" y="1613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6562800" y="4346640"/>
            <a:ext cx="171360" cy="129960"/>
          </a:xfrm>
          <a:custGeom>
            <a:avLst/>
            <a:gdLst/>
            <a:ahLst/>
            <a:rect l="l" t="t" r="r" b="b"/>
            <a:pathLst>
              <a:path w="172122" h="131217">
                <a:moveTo>
                  <a:pt x="172122" y="96676"/>
                </a:moveTo>
                <a:cubicBezTo>
                  <a:pt x="172122" y="87711"/>
                  <a:pt x="149588" y="76090"/>
                  <a:pt x="139849" y="64403"/>
                </a:cubicBezTo>
                <a:cubicBezTo>
                  <a:pt x="131572" y="54471"/>
                  <a:pt x="127476" y="41272"/>
                  <a:pt x="118334" y="32130"/>
                </a:cubicBezTo>
                <a:cubicBezTo>
                  <a:pt x="109192" y="22988"/>
                  <a:pt x="96819" y="17787"/>
                  <a:pt x="86061" y="10615"/>
                </a:cubicBezTo>
                <a:cubicBezTo>
                  <a:pt x="41514" y="16979"/>
                  <a:pt x="0" y="0"/>
                  <a:pt x="0" y="53646"/>
                </a:cubicBezTo>
                <a:cubicBezTo>
                  <a:pt x="0" y="64986"/>
                  <a:pt x="7171" y="75161"/>
                  <a:pt x="10757" y="85919"/>
                </a:cubicBezTo>
                <a:cubicBezTo>
                  <a:pt x="52080" y="72144"/>
                  <a:pt x="65356" y="62373"/>
                  <a:pt x="118334" y="85919"/>
                </a:cubicBezTo>
                <a:cubicBezTo>
                  <a:pt x="130149" y="91170"/>
                  <a:pt x="129753" y="110115"/>
                  <a:pt x="139849" y="118192"/>
                </a:cubicBezTo>
                <a:cubicBezTo>
                  <a:pt x="156130" y="131217"/>
                  <a:pt x="172122" y="105641"/>
                  <a:pt x="172122" y="9667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6734160" y="4527720"/>
            <a:ext cx="239760" cy="72720"/>
          </a:xfrm>
          <a:custGeom>
            <a:avLst/>
            <a:gdLst/>
            <a:ahLst/>
            <a:rect l="l" t="t" r="r" b="b"/>
            <a:pathLst>
              <a:path w="240086" h="71952">
                <a:moveTo>
                  <a:pt x="0" y="54773"/>
                </a:moveTo>
                <a:cubicBezTo>
                  <a:pt x="51144" y="20676"/>
                  <a:pt x="20006" y="37346"/>
                  <a:pt x="96819" y="11742"/>
                </a:cubicBezTo>
                <a:lnTo>
                  <a:pt x="129092" y="984"/>
                </a:lnTo>
                <a:cubicBezTo>
                  <a:pt x="157779" y="4570"/>
                  <a:pt x="188735" y="0"/>
                  <a:pt x="215153" y="11742"/>
                </a:cubicBezTo>
                <a:cubicBezTo>
                  <a:pt x="240086" y="22823"/>
                  <a:pt x="224120" y="63558"/>
                  <a:pt x="204395" y="65530"/>
                </a:cubicBezTo>
                <a:cubicBezTo>
                  <a:pt x="140170" y="71952"/>
                  <a:pt x="75304" y="65530"/>
                  <a:pt x="0" y="54773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6465960" y="4568760"/>
            <a:ext cx="266760" cy="146160"/>
          </a:xfrm>
          <a:custGeom>
            <a:avLst/>
            <a:gdLst/>
            <a:ahLst/>
            <a:rect l="l" t="t" r="r" b="b"/>
            <a:pathLst>
              <a:path w="266905" h="146733">
                <a:moveTo>
                  <a:pt x="258339" y="143147"/>
                </a:moveTo>
                <a:cubicBezTo>
                  <a:pt x="256546" y="139561"/>
                  <a:pt x="266905" y="141686"/>
                  <a:pt x="204551" y="100117"/>
                </a:cubicBezTo>
                <a:cubicBezTo>
                  <a:pt x="191892" y="91678"/>
                  <a:pt x="183965" y="77583"/>
                  <a:pt x="172278" y="67844"/>
                </a:cubicBezTo>
                <a:cubicBezTo>
                  <a:pt x="90865" y="0"/>
                  <a:pt x="181076" y="87402"/>
                  <a:pt x="118490" y="24813"/>
                </a:cubicBezTo>
                <a:cubicBezTo>
                  <a:pt x="89803" y="28399"/>
                  <a:pt x="59271" y="24834"/>
                  <a:pt x="32429" y="35571"/>
                </a:cubicBezTo>
                <a:cubicBezTo>
                  <a:pt x="7484" y="45549"/>
                  <a:pt x="0" y="90139"/>
                  <a:pt x="32429" y="100117"/>
                </a:cubicBezTo>
                <a:cubicBezTo>
                  <a:pt x="70285" y="111765"/>
                  <a:pt x="111427" y="106246"/>
                  <a:pt x="150763" y="110874"/>
                </a:cubicBezTo>
                <a:cubicBezTo>
                  <a:pt x="172426" y="113423"/>
                  <a:pt x="194336" y="115640"/>
                  <a:pt x="215309" y="121632"/>
                </a:cubicBezTo>
                <a:cubicBezTo>
                  <a:pt x="220185" y="123025"/>
                  <a:pt x="260132" y="146733"/>
                  <a:pt x="258339" y="143147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7253280" y="4410000"/>
            <a:ext cx="260280" cy="65160"/>
          </a:xfrm>
          <a:custGeom>
            <a:avLst/>
            <a:gdLst/>
            <a:ahLst/>
            <a:rect l="l" t="t" r="r" b="b"/>
            <a:pathLst>
              <a:path w="260158" h="64546">
                <a:moveTo>
                  <a:pt x="19278" y="32273"/>
                </a:moveTo>
                <a:cubicBezTo>
                  <a:pt x="26450" y="26894"/>
                  <a:pt x="0" y="37782"/>
                  <a:pt x="94582" y="10758"/>
                </a:cubicBezTo>
                <a:cubicBezTo>
                  <a:pt x="105485" y="7643"/>
                  <a:pt x="116097" y="3586"/>
                  <a:pt x="126855" y="0"/>
                </a:cubicBezTo>
                <a:cubicBezTo>
                  <a:pt x="159128" y="3586"/>
                  <a:pt x="192172" y="2882"/>
                  <a:pt x="223674" y="10758"/>
                </a:cubicBezTo>
                <a:cubicBezTo>
                  <a:pt x="236217" y="13894"/>
                  <a:pt x="251145" y="20269"/>
                  <a:pt x="255947" y="32273"/>
                </a:cubicBezTo>
                <a:cubicBezTo>
                  <a:pt x="260158" y="42802"/>
                  <a:pt x="248775" y="53788"/>
                  <a:pt x="245189" y="64546"/>
                </a:cubicBezTo>
                <a:cubicBezTo>
                  <a:pt x="205744" y="60960"/>
                  <a:pt x="166220" y="58163"/>
                  <a:pt x="126855" y="53789"/>
                </a:cubicBezTo>
                <a:cubicBezTo>
                  <a:pt x="101654" y="50989"/>
                  <a:pt x="75838" y="50317"/>
                  <a:pt x="51551" y="43031"/>
                </a:cubicBezTo>
                <a:cubicBezTo>
                  <a:pt x="39167" y="39316"/>
                  <a:pt x="12106" y="37652"/>
                  <a:pt x="19278" y="32273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7020000" y="4378320"/>
            <a:ext cx="209520" cy="182520"/>
          </a:xfrm>
          <a:custGeom>
            <a:avLst/>
            <a:gdLst/>
            <a:ahLst/>
            <a:rect l="l" t="t" r="r" b="b"/>
            <a:pathLst>
              <a:path w="209574" h="182880">
                <a:moveTo>
                  <a:pt x="209574" y="182880"/>
                </a:moveTo>
                <a:cubicBezTo>
                  <a:pt x="202402" y="172122"/>
                  <a:pt x="193841" y="162171"/>
                  <a:pt x="188059" y="150607"/>
                </a:cubicBezTo>
                <a:cubicBezTo>
                  <a:pt x="163443" y="101375"/>
                  <a:pt x="197051" y="127327"/>
                  <a:pt x="145028" y="75304"/>
                </a:cubicBezTo>
                <a:cubicBezTo>
                  <a:pt x="114737" y="45013"/>
                  <a:pt x="100270" y="45953"/>
                  <a:pt x="69724" y="21516"/>
                </a:cubicBezTo>
                <a:cubicBezTo>
                  <a:pt x="61804" y="15180"/>
                  <a:pt x="55381" y="7172"/>
                  <a:pt x="48209" y="0"/>
                </a:cubicBezTo>
                <a:cubicBezTo>
                  <a:pt x="37451" y="3586"/>
                  <a:pt x="23954" y="2740"/>
                  <a:pt x="15936" y="10758"/>
                </a:cubicBezTo>
                <a:cubicBezTo>
                  <a:pt x="0" y="26695"/>
                  <a:pt x="3187" y="59367"/>
                  <a:pt x="15936" y="75304"/>
                </a:cubicBezTo>
                <a:cubicBezTo>
                  <a:pt x="24013" y="85400"/>
                  <a:pt x="35943" y="92730"/>
                  <a:pt x="48209" y="96819"/>
                </a:cubicBezTo>
                <a:cubicBezTo>
                  <a:pt x="87557" y="109935"/>
                  <a:pt x="116817" y="107577"/>
                  <a:pt x="155786" y="107577"/>
                </a:cubicBezTo>
              </a:path>
            </a:pathLst>
          </a:custGeom>
          <a:solidFill>
            <a:srgbClr val="92d050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1279440" y="5830920"/>
            <a:ext cx="2529000" cy="85680"/>
          </a:xfrm>
          <a:custGeom>
            <a:avLst/>
            <a:gdLst/>
            <a:ahLst/>
            <a:rect l="l" t="t" r="r" b="b"/>
            <a:pathLst>
              <a:path w="2528047" h="86061">
                <a:moveTo>
                  <a:pt x="0" y="75303"/>
                </a:moveTo>
                <a:cubicBezTo>
                  <a:pt x="28687" y="71717"/>
                  <a:pt x="57201" y="66244"/>
                  <a:pt x="86061" y="64546"/>
                </a:cubicBezTo>
                <a:cubicBezTo>
                  <a:pt x="427001" y="44491"/>
                  <a:pt x="265849" y="73771"/>
                  <a:pt x="419548" y="43030"/>
                </a:cubicBezTo>
                <a:lnTo>
                  <a:pt x="774551" y="53788"/>
                </a:lnTo>
                <a:cubicBezTo>
                  <a:pt x="814117" y="55587"/>
                  <a:pt x="853285" y="65308"/>
                  <a:pt x="892885" y="64546"/>
                </a:cubicBezTo>
                <a:cubicBezTo>
                  <a:pt x="1040054" y="61716"/>
                  <a:pt x="1333948" y="43030"/>
                  <a:pt x="1333948" y="43030"/>
                </a:cubicBezTo>
                <a:cubicBezTo>
                  <a:pt x="1341120" y="35858"/>
                  <a:pt x="1345325" y="21789"/>
                  <a:pt x="1355464" y="21515"/>
                </a:cubicBezTo>
                <a:cubicBezTo>
                  <a:pt x="1668224" y="13063"/>
                  <a:pt x="1619421" y="4135"/>
                  <a:pt x="1775012" y="43030"/>
                </a:cubicBezTo>
                <a:cubicBezTo>
                  <a:pt x="1789355" y="50202"/>
                  <a:pt x="1802682" y="59938"/>
                  <a:pt x="1818042" y="64546"/>
                </a:cubicBezTo>
                <a:cubicBezTo>
                  <a:pt x="1838934" y="70814"/>
                  <a:pt x="1861295" y="70571"/>
                  <a:pt x="1882588" y="75303"/>
                </a:cubicBezTo>
                <a:cubicBezTo>
                  <a:pt x="1893658" y="77763"/>
                  <a:pt x="1904103" y="82475"/>
                  <a:pt x="1914861" y="86061"/>
                </a:cubicBezTo>
                <a:lnTo>
                  <a:pt x="2162287" y="75303"/>
                </a:lnTo>
                <a:cubicBezTo>
                  <a:pt x="2226856" y="72153"/>
                  <a:pt x="2291571" y="70675"/>
                  <a:pt x="2355925" y="64546"/>
                </a:cubicBezTo>
                <a:cubicBezTo>
                  <a:pt x="2367214" y="63471"/>
                  <a:pt x="2377128" y="56248"/>
                  <a:pt x="2388198" y="53788"/>
                </a:cubicBezTo>
                <a:cubicBezTo>
                  <a:pt x="2501801" y="28542"/>
                  <a:pt x="2412363" y="56490"/>
                  <a:pt x="2485016" y="32273"/>
                </a:cubicBezTo>
                <a:cubicBezTo>
                  <a:pt x="2512202" y="5087"/>
                  <a:pt x="2497460" y="15293"/>
                  <a:pt x="2528047" y="0"/>
                </a:cubicBezTo>
              </a:path>
            </a:pathLst>
          </a:cu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2108160" y="5389560"/>
            <a:ext cx="119160" cy="495360"/>
          </a:xfrm>
          <a:custGeom>
            <a:avLst/>
            <a:gdLst/>
            <a:ahLst/>
            <a:rect l="l" t="t" r="r" b="b"/>
            <a:pathLst>
              <a:path w="118334" h="494852">
                <a:moveTo>
                  <a:pt x="21515" y="494852"/>
                </a:moveTo>
                <a:cubicBezTo>
                  <a:pt x="17929" y="469751"/>
                  <a:pt x="14613" y="444609"/>
                  <a:pt x="10757" y="419548"/>
                </a:cubicBezTo>
                <a:cubicBezTo>
                  <a:pt x="7440" y="397990"/>
                  <a:pt x="0" y="376815"/>
                  <a:pt x="0" y="355003"/>
                </a:cubicBezTo>
                <a:cubicBezTo>
                  <a:pt x="0" y="295969"/>
                  <a:pt x="13257" y="218415"/>
                  <a:pt x="32273" y="161365"/>
                </a:cubicBezTo>
                <a:cubicBezTo>
                  <a:pt x="49332" y="110189"/>
                  <a:pt x="46079" y="101075"/>
                  <a:pt x="75303" y="64546"/>
                </a:cubicBezTo>
                <a:cubicBezTo>
                  <a:pt x="81639" y="56626"/>
                  <a:pt x="89647" y="50203"/>
                  <a:pt x="96819" y="43031"/>
                </a:cubicBezTo>
                <a:cubicBezTo>
                  <a:pt x="109180" y="5947"/>
                  <a:pt x="99558" y="18776"/>
                  <a:pt x="118334" y="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2828880" y="5303880"/>
            <a:ext cx="65160" cy="527040"/>
          </a:xfrm>
          <a:custGeom>
            <a:avLst/>
            <a:gdLst/>
            <a:ahLst/>
            <a:rect l="l" t="t" r="r" b="b"/>
            <a:pathLst>
              <a:path w="64546" h="527125">
                <a:moveTo>
                  <a:pt x="64546" y="527125"/>
                </a:moveTo>
                <a:cubicBezTo>
                  <a:pt x="60960" y="387275"/>
                  <a:pt x="60442" y="247313"/>
                  <a:pt x="53788" y="107576"/>
                </a:cubicBezTo>
                <a:cubicBezTo>
                  <a:pt x="53249" y="96250"/>
                  <a:pt x="48865" y="85027"/>
                  <a:pt x="43031" y="75304"/>
                </a:cubicBezTo>
                <a:cubicBezTo>
                  <a:pt x="37813" y="66607"/>
                  <a:pt x="28687" y="60960"/>
                  <a:pt x="21515" y="53788"/>
                </a:cubicBezTo>
                <a:cubicBezTo>
                  <a:pt x="8223" y="13908"/>
                  <a:pt x="15829" y="31657"/>
                  <a:pt x="0" y="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2216160" y="5367240"/>
            <a:ext cx="274680" cy="103320"/>
          </a:xfrm>
          <a:custGeom>
            <a:avLst/>
            <a:gdLst/>
            <a:ahLst/>
            <a:rect l="l" t="t" r="r" b="b"/>
            <a:pathLst>
              <a:path w="274529" h="103070">
                <a:moveTo>
                  <a:pt x="0" y="43030"/>
                </a:moveTo>
                <a:cubicBezTo>
                  <a:pt x="10758" y="39444"/>
                  <a:pt x="21370" y="35388"/>
                  <a:pt x="32273" y="32273"/>
                </a:cubicBezTo>
                <a:cubicBezTo>
                  <a:pt x="46489" y="28211"/>
                  <a:pt x="61142" y="25763"/>
                  <a:pt x="75304" y="21515"/>
                </a:cubicBezTo>
                <a:cubicBezTo>
                  <a:pt x="97027" y="14998"/>
                  <a:pt x="139850" y="0"/>
                  <a:pt x="139850" y="0"/>
                </a:cubicBezTo>
                <a:cubicBezTo>
                  <a:pt x="153760" y="4637"/>
                  <a:pt x="274529" y="32952"/>
                  <a:pt x="150607" y="86061"/>
                </a:cubicBezTo>
                <a:cubicBezTo>
                  <a:pt x="110919" y="103070"/>
                  <a:pt x="64546" y="78889"/>
                  <a:pt x="21516" y="75303"/>
                </a:cubicBezTo>
                <a:lnTo>
                  <a:pt x="0" y="4303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1987560" y="5324400"/>
            <a:ext cx="154080" cy="173160"/>
          </a:xfrm>
          <a:custGeom>
            <a:avLst/>
            <a:gdLst/>
            <a:ahLst/>
            <a:rect l="l" t="t" r="r" b="b"/>
            <a:pathLst>
              <a:path w="152831" h="172123">
                <a:moveTo>
                  <a:pt x="152831" y="172123"/>
                </a:moveTo>
                <a:cubicBezTo>
                  <a:pt x="142073" y="139850"/>
                  <a:pt x="138060" y="104475"/>
                  <a:pt x="120558" y="75304"/>
                </a:cubicBezTo>
                <a:cubicBezTo>
                  <a:pt x="80852" y="9127"/>
                  <a:pt x="68381" y="13850"/>
                  <a:pt x="12981" y="0"/>
                </a:cubicBezTo>
                <a:cubicBezTo>
                  <a:pt x="9395" y="10758"/>
                  <a:pt x="0" y="21154"/>
                  <a:pt x="2224" y="32273"/>
                </a:cubicBezTo>
                <a:cubicBezTo>
                  <a:pt x="4213" y="42219"/>
                  <a:pt x="18521" y="45092"/>
                  <a:pt x="23739" y="53789"/>
                </a:cubicBezTo>
                <a:cubicBezTo>
                  <a:pt x="52426" y="101600"/>
                  <a:pt x="9397" y="77694"/>
                  <a:pt x="66770" y="96819"/>
                </a:cubicBezTo>
                <a:cubicBezTo>
                  <a:pt x="73942" y="107577"/>
                  <a:pt x="78189" y="121015"/>
                  <a:pt x="88285" y="129092"/>
                </a:cubicBezTo>
                <a:cubicBezTo>
                  <a:pt x="97140" y="136176"/>
                  <a:pt x="110416" y="134779"/>
                  <a:pt x="120558" y="139850"/>
                </a:cubicBezTo>
                <a:cubicBezTo>
                  <a:pt x="132122" y="145632"/>
                  <a:pt x="143689" y="152223"/>
                  <a:pt x="152831" y="161365"/>
                </a:cubicBezTo>
                <a:lnTo>
                  <a:pt x="152831" y="172123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2743200" y="5164200"/>
            <a:ext cx="130320" cy="210960"/>
          </a:xfrm>
          <a:custGeom>
            <a:avLst/>
            <a:gdLst/>
            <a:ahLst/>
            <a:rect l="l" t="t" r="r" b="b"/>
            <a:pathLst>
              <a:path w="130885" h="211567">
                <a:moveTo>
                  <a:pt x="129092" y="204395"/>
                </a:moveTo>
                <a:cubicBezTo>
                  <a:pt x="130885" y="197223"/>
                  <a:pt x="125941" y="146226"/>
                  <a:pt x="118334" y="118334"/>
                </a:cubicBezTo>
                <a:cubicBezTo>
                  <a:pt x="114932" y="105861"/>
                  <a:pt x="102601" y="97625"/>
                  <a:pt x="96819" y="86061"/>
                </a:cubicBezTo>
                <a:cubicBezTo>
                  <a:pt x="91748" y="75919"/>
                  <a:pt x="92351" y="63223"/>
                  <a:pt x="86061" y="53788"/>
                </a:cubicBezTo>
                <a:cubicBezTo>
                  <a:pt x="69494" y="28938"/>
                  <a:pt x="45329" y="15876"/>
                  <a:pt x="21515" y="0"/>
                </a:cubicBezTo>
                <a:cubicBezTo>
                  <a:pt x="14343" y="10758"/>
                  <a:pt x="0" y="19344"/>
                  <a:pt x="0" y="32273"/>
                </a:cubicBezTo>
                <a:cubicBezTo>
                  <a:pt x="0" y="66907"/>
                  <a:pt x="16535" y="98462"/>
                  <a:pt x="43031" y="118334"/>
                </a:cubicBezTo>
                <a:cubicBezTo>
                  <a:pt x="63717" y="133849"/>
                  <a:pt x="86061" y="147021"/>
                  <a:pt x="107576" y="161364"/>
                </a:cubicBezTo>
                <a:cubicBezTo>
                  <a:pt x="116527" y="167331"/>
                  <a:pt x="127299" y="211567"/>
                  <a:pt x="129092" y="20439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2894040" y="5249880"/>
            <a:ext cx="195120" cy="204840"/>
          </a:xfrm>
          <a:custGeom>
            <a:avLst/>
            <a:gdLst/>
            <a:ahLst/>
            <a:rect l="l" t="t" r="r" b="b"/>
            <a:pathLst>
              <a:path w="195862" h="204395">
                <a:moveTo>
                  <a:pt x="0" y="204395"/>
                </a:moveTo>
                <a:cubicBezTo>
                  <a:pt x="23793" y="180602"/>
                  <a:pt x="34591" y="165585"/>
                  <a:pt x="64546" y="150607"/>
                </a:cubicBezTo>
                <a:cubicBezTo>
                  <a:pt x="74688" y="145536"/>
                  <a:pt x="86906" y="145356"/>
                  <a:pt x="96819" y="139849"/>
                </a:cubicBezTo>
                <a:cubicBezTo>
                  <a:pt x="151561" y="109437"/>
                  <a:pt x="150237" y="107948"/>
                  <a:pt x="182880" y="75303"/>
                </a:cubicBezTo>
                <a:cubicBezTo>
                  <a:pt x="186466" y="64545"/>
                  <a:pt x="195862" y="54149"/>
                  <a:pt x="193638" y="43030"/>
                </a:cubicBezTo>
                <a:cubicBezTo>
                  <a:pt x="191280" y="31240"/>
                  <a:pt x="144486" y="3091"/>
                  <a:pt x="139849" y="0"/>
                </a:cubicBezTo>
                <a:cubicBezTo>
                  <a:pt x="129092" y="10758"/>
                  <a:pt x="114965" y="18974"/>
                  <a:pt x="107577" y="32273"/>
                </a:cubicBezTo>
                <a:cubicBezTo>
                  <a:pt x="107571" y="32283"/>
                  <a:pt x="80684" y="112950"/>
                  <a:pt x="75304" y="129092"/>
                </a:cubicBezTo>
                <a:cubicBezTo>
                  <a:pt x="73700" y="133903"/>
                  <a:pt x="68132" y="136263"/>
                  <a:pt x="64546" y="139849"/>
                </a:cubicBezTo>
              </a:path>
            </a:pathLst>
          </a:custGeom>
          <a:solidFill>
            <a:srgbClr val="92d050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0"/>
          <p:cNvSpPr/>
          <p:nvPr/>
        </p:nvSpPr>
        <p:spPr>
          <a:xfrm>
            <a:off x="5872320" y="28954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OST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1"/>
          <p:cNvSpPr/>
          <p:nvPr/>
        </p:nvSpPr>
        <p:spPr>
          <a:xfrm>
            <a:off x="1655280" y="4572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OST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1"/>
          <p:cNvSpPr/>
          <p:nvPr/>
        </p:nvSpPr>
        <p:spPr>
          <a:xfrm>
            <a:off x="1162080" y="3506760"/>
            <a:ext cx="6819840" cy="317520"/>
          </a:xfrm>
          <a:custGeom>
            <a:avLst/>
            <a:gdLst/>
            <a:ahLst/>
            <a:rect l="l" t="t" r="r" b="b"/>
            <a:pathLst>
              <a:path w="6820348" h="316583">
                <a:moveTo>
                  <a:pt x="0" y="129092"/>
                </a:moveTo>
                <a:lnTo>
                  <a:pt x="1850315" y="118334"/>
                </a:lnTo>
                <a:cubicBezTo>
                  <a:pt x="2036815" y="118334"/>
                  <a:pt x="2223336" y="122315"/>
                  <a:pt x="2409713" y="129092"/>
                </a:cubicBezTo>
                <a:cubicBezTo>
                  <a:pt x="2421045" y="129504"/>
                  <a:pt x="2431083" y="136734"/>
                  <a:pt x="2441986" y="139849"/>
                </a:cubicBezTo>
                <a:cubicBezTo>
                  <a:pt x="2456202" y="143911"/>
                  <a:pt x="2470673" y="147021"/>
                  <a:pt x="2485016" y="150607"/>
                </a:cubicBezTo>
                <a:cubicBezTo>
                  <a:pt x="2557632" y="199017"/>
                  <a:pt x="2467257" y="143503"/>
                  <a:pt x="2592593" y="193638"/>
                </a:cubicBezTo>
                <a:cubicBezTo>
                  <a:pt x="2604597" y="198440"/>
                  <a:pt x="2613302" y="209371"/>
                  <a:pt x="2624866" y="215153"/>
                </a:cubicBezTo>
                <a:cubicBezTo>
                  <a:pt x="2640017" y="222728"/>
                  <a:pt x="2689206" y="241220"/>
                  <a:pt x="2710927" y="247426"/>
                </a:cubicBezTo>
                <a:cubicBezTo>
                  <a:pt x="2725143" y="251488"/>
                  <a:pt x="2739614" y="254597"/>
                  <a:pt x="2753958" y="258183"/>
                </a:cubicBezTo>
                <a:lnTo>
                  <a:pt x="3173506" y="247426"/>
                </a:lnTo>
                <a:cubicBezTo>
                  <a:pt x="3220226" y="245629"/>
                  <a:pt x="3266619" y="237984"/>
                  <a:pt x="3313355" y="236668"/>
                </a:cubicBezTo>
                <a:cubicBezTo>
                  <a:pt x="3521285" y="230811"/>
                  <a:pt x="3729318" y="229497"/>
                  <a:pt x="3937299" y="225911"/>
                </a:cubicBezTo>
                <a:cubicBezTo>
                  <a:pt x="3955228" y="222325"/>
                  <a:pt x="3973574" y="220407"/>
                  <a:pt x="3991087" y="215153"/>
                </a:cubicBezTo>
                <a:cubicBezTo>
                  <a:pt x="4009583" y="209604"/>
                  <a:pt x="4026555" y="199745"/>
                  <a:pt x="4044875" y="193638"/>
                </a:cubicBezTo>
                <a:cubicBezTo>
                  <a:pt x="4058901" y="188963"/>
                  <a:pt x="4073562" y="186466"/>
                  <a:pt x="4087906" y="182880"/>
                </a:cubicBezTo>
                <a:cubicBezTo>
                  <a:pt x="4168929" y="128865"/>
                  <a:pt x="4065956" y="192287"/>
                  <a:pt x="4163209" y="150607"/>
                </a:cubicBezTo>
                <a:cubicBezTo>
                  <a:pt x="4175093" y="145514"/>
                  <a:pt x="4183918" y="134874"/>
                  <a:pt x="4195482" y="129092"/>
                </a:cubicBezTo>
                <a:cubicBezTo>
                  <a:pt x="4212754" y="120456"/>
                  <a:pt x="4231341" y="114748"/>
                  <a:pt x="4249270" y="107576"/>
                </a:cubicBezTo>
                <a:cubicBezTo>
                  <a:pt x="4276229" y="80618"/>
                  <a:pt x="4275462" y="79358"/>
                  <a:pt x="4313816" y="53788"/>
                </a:cubicBezTo>
                <a:cubicBezTo>
                  <a:pt x="4331214" y="42190"/>
                  <a:pt x="4347500" y="27259"/>
                  <a:pt x="4367605" y="21515"/>
                </a:cubicBezTo>
                <a:cubicBezTo>
                  <a:pt x="4398827" y="12595"/>
                  <a:pt x="4432278" y="15350"/>
                  <a:pt x="4464423" y="10758"/>
                </a:cubicBezTo>
                <a:cubicBezTo>
                  <a:pt x="4482524" y="8172"/>
                  <a:pt x="4500282" y="3586"/>
                  <a:pt x="4518212" y="0"/>
                </a:cubicBezTo>
                <a:cubicBezTo>
                  <a:pt x="4640132" y="3586"/>
                  <a:pt x="4762151" y="4667"/>
                  <a:pt x="4883972" y="10758"/>
                </a:cubicBezTo>
                <a:cubicBezTo>
                  <a:pt x="4905757" y="11847"/>
                  <a:pt x="4927475" y="15776"/>
                  <a:pt x="4948518" y="21515"/>
                </a:cubicBezTo>
                <a:cubicBezTo>
                  <a:pt x="5050069" y="49211"/>
                  <a:pt x="4957513" y="37820"/>
                  <a:pt x="5045336" y="53788"/>
                </a:cubicBezTo>
                <a:cubicBezTo>
                  <a:pt x="5232658" y="87846"/>
                  <a:pt x="4976900" y="28611"/>
                  <a:pt x="5249732" y="96819"/>
                </a:cubicBezTo>
                <a:cubicBezTo>
                  <a:pt x="5265290" y="100708"/>
                  <a:pt x="5277747" y="112703"/>
                  <a:pt x="5292762" y="118334"/>
                </a:cubicBezTo>
                <a:cubicBezTo>
                  <a:pt x="5306606" y="123525"/>
                  <a:pt x="5321386" y="125767"/>
                  <a:pt x="5335793" y="129092"/>
                </a:cubicBezTo>
                <a:cubicBezTo>
                  <a:pt x="5355236" y="133579"/>
                  <a:pt x="5441597" y="151638"/>
                  <a:pt x="5475642" y="161365"/>
                </a:cubicBezTo>
                <a:cubicBezTo>
                  <a:pt x="5486545" y="164480"/>
                  <a:pt x="5497157" y="168536"/>
                  <a:pt x="5507915" y="172122"/>
                </a:cubicBezTo>
                <a:cubicBezTo>
                  <a:pt x="5600402" y="233782"/>
                  <a:pt x="5483386" y="159858"/>
                  <a:pt x="5572461" y="204395"/>
                </a:cubicBezTo>
                <a:cubicBezTo>
                  <a:pt x="5591163" y="213746"/>
                  <a:pt x="5606734" y="229162"/>
                  <a:pt x="5626249" y="236668"/>
                </a:cubicBezTo>
                <a:cubicBezTo>
                  <a:pt x="5653848" y="247283"/>
                  <a:pt x="5683623" y="251011"/>
                  <a:pt x="5712310" y="258183"/>
                </a:cubicBezTo>
                <a:cubicBezTo>
                  <a:pt x="5734312" y="263683"/>
                  <a:pt x="5755341" y="272527"/>
                  <a:pt x="5776856" y="279699"/>
                </a:cubicBezTo>
                <a:cubicBezTo>
                  <a:pt x="5807661" y="289968"/>
                  <a:pt x="5841275" y="288296"/>
                  <a:pt x="5873675" y="290456"/>
                </a:cubicBezTo>
                <a:cubicBezTo>
                  <a:pt x="5948897" y="295471"/>
                  <a:pt x="6024282" y="297628"/>
                  <a:pt x="6099586" y="301214"/>
                </a:cubicBezTo>
                <a:cubicBezTo>
                  <a:pt x="6135445" y="304800"/>
                  <a:pt x="6171124" y="311972"/>
                  <a:pt x="6207162" y="311972"/>
                </a:cubicBezTo>
                <a:cubicBezTo>
                  <a:pt x="6482786" y="311972"/>
                  <a:pt x="6437684" y="316583"/>
                  <a:pt x="6594438" y="290456"/>
                </a:cubicBezTo>
                <a:cubicBezTo>
                  <a:pt x="6605195" y="283284"/>
                  <a:pt x="6615146" y="274723"/>
                  <a:pt x="6626710" y="268941"/>
                </a:cubicBezTo>
                <a:cubicBezTo>
                  <a:pt x="6636852" y="263870"/>
                  <a:pt x="6648043" y="261167"/>
                  <a:pt x="6658983" y="258183"/>
                </a:cubicBezTo>
                <a:cubicBezTo>
                  <a:pt x="6687511" y="250403"/>
                  <a:pt x="6716358" y="243840"/>
                  <a:pt x="6745045" y="236668"/>
                </a:cubicBezTo>
                <a:lnTo>
                  <a:pt x="6788075" y="225911"/>
                </a:lnTo>
                <a:cubicBezTo>
                  <a:pt x="6812126" y="201859"/>
                  <a:pt x="6799447" y="204395"/>
                  <a:pt x="6820348" y="204395"/>
                </a:cubicBezTo>
              </a:path>
            </a:pathLst>
          </a:custGeom>
          <a:noFill/>
          <a:ln w="2844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\\la5000ans01.la.ds.monsanto.com\Software$\Microsoft\Office.MediaContent\XP\FILES\PFILES\MSOFFICE\MEDIA\CNTCD1\ClipArt3\j0237936.wmf"/>
          <p:cNvPicPr/>
          <p:nvPr/>
        </p:nvPicPr>
        <p:blipFill>
          <a:blip r:embed="rId1"/>
          <a:stretch/>
        </p:blipFill>
        <p:spPr>
          <a:xfrm>
            <a:off x="3581280" y="990720"/>
            <a:ext cx="2063880" cy="2633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3"/>
          <p:cNvSpPr/>
          <p:nvPr/>
        </p:nvSpPr>
        <p:spPr>
          <a:xfrm>
            <a:off x="1239840" y="4324320"/>
            <a:ext cx="69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nstantia"/>
              </a:rPr>
              <a:t>. . . . . . . . . . . . . . . . . . . . . . . . . . . . . . . . . . . . . .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1143000" y="3505320"/>
            <a:ext cx="6819840" cy="315720"/>
          </a:xfrm>
          <a:custGeom>
            <a:avLst/>
            <a:gdLst/>
            <a:ahLst/>
            <a:rect l="l" t="t" r="r" b="b"/>
            <a:pathLst>
              <a:path w="6820348" h="316583">
                <a:moveTo>
                  <a:pt x="0" y="129092"/>
                </a:moveTo>
                <a:lnTo>
                  <a:pt x="1850315" y="118334"/>
                </a:lnTo>
                <a:cubicBezTo>
                  <a:pt x="2036815" y="118334"/>
                  <a:pt x="2223336" y="122315"/>
                  <a:pt x="2409713" y="129092"/>
                </a:cubicBezTo>
                <a:cubicBezTo>
                  <a:pt x="2421045" y="129504"/>
                  <a:pt x="2431083" y="136734"/>
                  <a:pt x="2441986" y="139849"/>
                </a:cubicBezTo>
                <a:cubicBezTo>
                  <a:pt x="2456202" y="143911"/>
                  <a:pt x="2470673" y="147021"/>
                  <a:pt x="2485016" y="150607"/>
                </a:cubicBezTo>
                <a:cubicBezTo>
                  <a:pt x="2557632" y="199017"/>
                  <a:pt x="2467257" y="143503"/>
                  <a:pt x="2592593" y="193638"/>
                </a:cubicBezTo>
                <a:cubicBezTo>
                  <a:pt x="2604597" y="198440"/>
                  <a:pt x="2613302" y="209371"/>
                  <a:pt x="2624866" y="215153"/>
                </a:cubicBezTo>
                <a:cubicBezTo>
                  <a:pt x="2640017" y="222728"/>
                  <a:pt x="2689206" y="241220"/>
                  <a:pt x="2710927" y="247426"/>
                </a:cubicBezTo>
                <a:cubicBezTo>
                  <a:pt x="2725143" y="251488"/>
                  <a:pt x="2739614" y="254597"/>
                  <a:pt x="2753958" y="258183"/>
                </a:cubicBezTo>
                <a:lnTo>
                  <a:pt x="3173506" y="247426"/>
                </a:lnTo>
                <a:cubicBezTo>
                  <a:pt x="3220226" y="245629"/>
                  <a:pt x="3266619" y="237984"/>
                  <a:pt x="3313355" y="236668"/>
                </a:cubicBezTo>
                <a:cubicBezTo>
                  <a:pt x="3521285" y="230811"/>
                  <a:pt x="3729318" y="229497"/>
                  <a:pt x="3937299" y="225911"/>
                </a:cubicBezTo>
                <a:cubicBezTo>
                  <a:pt x="3955228" y="222325"/>
                  <a:pt x="3973574" y="220407"/>
                  <a:pt x="3991087" y="215153"/>
                </a:cubicBezTo>
                <a:cubicBezTo>
                  <a:pt x="4009583" y="209604"/>
                  <a:pt x="4026555" y="199745"/>
                  <a:pt x="4044875" y="193638"/>
                </a:cubicBezTo>
                <a:cubicBezTo>
                  <a:pt x="4058901" y="188963"/>
                  <a:pt x="4073562" y="186466"/>
                  <a:pt x="4087906" y="182880"/>
                </a:cubicBezTo>
                <a:cubicBezTo>
                  <a:pt x="4168929" y="128865"/>
                  <a:pt x="4065956" y="192287"/>
                  <a:pt x="4163209" y="150607"/>
                </a:cubicBezTo>
                <a:cubicBezTo>
                  <a:pt x="4175093" y="145514"/>
                  <a:pt x="4183918" y="134874"/>
                  <a:pt x="4195482" y="129092"/>
                </a:cubicBezTo>
                <a:cubicBezTo>
                  <a:pt x="4212754" y="120456"/>
                  <a:pt x="4231341" y="114748"/>
                  <a:pt x="4249270" y="107576"/>
                </a:cubicBezTo>
                <a:cubicBezTo>
                  <a:pt x="4276229" y="80618"/>
                  <a:pt x="4275462" y="79358"/>
                  <a:pt x="4313816" y="53788"/>
                </a:cubicBezTo>
                <a:cubicBezTo>
                  <a:pt x="4331214" y="42190"/>
                  <a:pt x="4347500" y="27259"/>
                  <a:pt x="4367605" y="21515"/>
                </a:cubicBezTo>
                <a:cubicBezTo>
                  <a:pt x="4398827" y="12595"/>
                  <a:pt x="4432278" y="15350"/>
                  <a:pt x="4464423" y="10758"/>
                </a:cubicBezTo>
                <a:cubicBezTo>
                  <a:pt x="4482524" y="8172"/>
                  <a:pt x="4500282" y="3586"/>
                  <a:pt x="4518212" y="0"/>
                </a:cubicBezTo>
                <a:cubicBezTo>
                  <a:pt x="4640132" y="3586"/>
                  <a:pt x="4762151" y="4667"/>
                  <a:pt x="4883972" y="10758"/>
                </a:cubicBezTo>
                <a:cubicBezTo>
                  <a:pt x="4905757" y="11847"/>
                  <a:pt x="4927475" y="15776"/>
                  <a:pt x="4948518" y="21515"/>
                </a:cubicBezTo>
                <a:cubicBezTo>
                  <a:pt x="5050069" y="49211"/>
                  <a:pt x="4957513" y="37820"/>
                  <a:pt x="5045336" y="53788"/>
                </a:cubicBezTo>
                <a:cubicBezTo>
                  <a:pt x="5232658" y="87846"/>
                  <a:pt x="4976900" y="28611"/>
                  <a:pt x="5249732" y="96819"/>
                </a:cubicBezTo>
                <a:cubicBezTo>
                  <a:pt x="5265290" y="100708"/>
                  <a:pt x="5277747" y="112703"/>
                  <a:pt x="5292762" y="118334"/>
                </a:cubicBezTo>
                <a:cubicBezTo>
                  <a:pt x="5306606" y="123525"/>
                  <a:pt x="5321386" y="125767"/>
                  <a:pt x="5335793" y="129092"/>
                </a:cubicBezTo>
                <a:cubicBezTo>
                  <a:pt x="5355236" y="133579"/>
                  <a:pt x="5441597" y="151638"/>
                  <a:pt x="5475642" y="161365"/>
                </a:cubicBezTo>
                <a:cubicBezTo>
                  <a:pt x="5486545" y="164480"/>
                  <a:pt x="5497157" y="168536"/>
                  <a:pt x="5507915" y="172122"/>
                </a:cubicBezTo>
                <a:cubicBezTo>
                  <a:pt x="5600402" y="233782"/>
                  <a:pt x="5483386" y="159858"/>
                  <a:pt x="5572461" y="204395"/>
                </a:cubicBezTo>
                <a:cubicBezTo>
                  <a:pt x="5591163" y="213746"/>
                  <a:pt x="5606734" y="229162"/>
                  <a:pt x="5626249" y="236668"/>
                </a:cubicBezTo>
                <a:cubicBezTo>
                  <a:pt x="5653848" y="247283"/>
                  <a:pt x="5683623" y="251011"/>
                  <a:pt x="5712310" y="258183"/>
                </a:cubicBezTo>
                <a:cubicBezTo>
                  <a:pt x="5734312" y="263683"/>
                  <a:pt x="5755341" y="272527"/>
                  <a:pt x="5776856" y="279699"/>
                </a:cubicBezTo>
                <a:cubicBezTo>
                  <a:pt x="5807661" y="289968"/>
                  <a:pt x="5841275" y="288296"/>
                  <a:pt x="5873675" y="290456"/>
                </a:cubicBezTo>
                <a:cubicBezTo>
                  <a:pt x="5948897" y="295471"/>
                  <a:pt x="6024282" y="297628"/>
                  <a:pt x="6099586" y="301214"/>
                </a:cubicBezTo>
                <a:cubicBezTo>
                  <a:pt x="6135445" y="304800"/>
                  <a:pt x="6171124" y="311972"/>
                  <a:pt x="6207162" y="311972"/>
                </a:cubicBezTo>
                <a:cubicBezTo>
                  <a:pt x="6482786" y="311972"/>
                  <a:pt x="6437684" y="316583"/>
                  <a:pt x="6594438" y="290456"/>
                </a:cubicBezTo>
                <a:cubicBezTo>
                  <a:pt x="6605195" y="283284"/>
                  <a:pt x="6615146" y="274723"/>
                  <a:pt x="6626710" y="268941"/>
                </a:cubicBezTo>
                <a:cubicBezTo>
                  <a:pt x="6636852" y="263870"/>
                  <a:pt x="6648043" y="261167"/>
                  <a:pt x="6658983" y="258183"/>
                </a:cubicBezTo>
                <a:cubicBezTo>
                  <a:pt x="6687511" y="250403"/>
                  <a:pt x="6716358" y="243840"/>
                  <a:pt x="6745045" y="236668"/>
                </a:cubicBezTo>
                <a:lnTo>
                  <a:pt x="6788075" y="225911"/>
                </a:lnTo>
                <a:cubicBezTo>
                  <a:pt x="6812126" y="201859"/>
                  <a:pt x="6799447" y="204395"/>
                  <a:pt x="6820348" y="2043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028E-008 L 0 0.0555 E">
                                      <p:cBhvr>
                                        <p:cTn id="1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555 L 0.00208 0.13252 E">
                                      <p:cBhvr>
                                        <p:cTn id="1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7" name="Flowchart: Direct Access Storage 2"/>
          <p:cNvSpPr/>
          <p:nvPr/>
        </p:nvSpPr>
        <p:spPr>
          <a:xfrm>
            <a:off x="990720" y="3276720"/>
            <a:ext cx="3047760" cy="1523880"/>
          </a:xfrm>
          <a:prstGeom prst="flowChartMagneticDrum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-Shape 3"/>
          <p:cNvSpPr/>
          <p:nvPr/>
        </p:nvSpPr>
        <p:spPr>
          <a:xfrm>
            <a:off x="1600200" y="4800600"/>
            <a:ext cx="152280" cy="228600"/>
          </a:xfrm>
          <a:custGeom>
            <a:avLst/>
            <a:gdLst>
              <a:gd name="textAreaLeft" fmla="*/ 0 w 152280"/>
              <a:gd name="textAreaRight" fmla="*/ 7632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400" h="228600">
                <a:moveTo>
                  <a:pt x="0" y="0"/>
                </a:moveTo>
                <a:lnTo>
                  <a:pt x="76200" y="0"/>
                </a:lnTo>
                <a:lnTo>
                  <a:pt x="76200" y="152400"/>
                </a:lnTo>
                <a:lnTo>
                  <a:pt x="152400" y="152400"/>
                </a:lnTo>
                <a:lnTo>
                  <a:pt x="152400" y="228600"/>
                </a:lnTo>
                <a:lnTo>
                  <a:pt x="0" y="228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"/>
          <p:cNvSpPr/>
          <p:nvPr/>
        </p:nvSpPr>
        <p:spPr>
          <a:xfrm flipV="1">
            <a:off x="1752480" y="4952880"/>
            <a:ext cx="2438640" cy="3816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Summing Junction 6"/>
          <p:cNvSpPr/>
          <p:nvPr/>
        </p:nvSpPr>
        <p:spPr>
          <a:xfrm>
            <a:off x="4191120" y="4800600"/>
            <a:ext cx="304560" cy="304920"/>
          </a:xfrm>
          <a:prstGeom prst="flowChartSummingJunction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8"/>
          <p:cNvSpPr/>
          <p:nvPr/>
        </p:nvSpPr>
        <p:spPr>
          <a:xfrm>
            <a:off x="4495680" y="4952880"/>
            <a:ext cx="1219320" cy="18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 flipV="1">
            <a:off x="5027760" y="3123720"/>
            <a:ext cx="1440" cy="18306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alf Frame 12"/>
          <p:cNvSpPr/>
          <p:nvPr/>
        </p:nvSpPr>
        <p:spPr>
          <a:xfrm>
            <a:off x="24382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0" y="0"/>
                </a:moveTo>
                <a:lnTo>
                  <a:pt x="152400" y="0"/>
                </a:lnTo>
                <a:lnTo>
                  <a:pt x="101601" y="50799"/>
                </a:lnTo>
                <a:lnTo>
                  <a:pt x="50799" y="50799"/>
                </a:lnTo>
                <a:lnTo>
                  <a:pt x="50799" y="101601"/>
                </a:lnTo>
                <a:lnTo>
                  <a:pt x="0" y="152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 flipV="1">
            <a:off x="2565360" y="3123720"/>
            <a:ext cx="2463840" cy="2556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7"/>
          <p:cNvSpPr/>
          <p:nvPr/>
        </p:nvSpPr>
        <p:spPr>
          <a:xfrm flipH="1">
            <a:off x="2437920" y="3251160"/>
            <a:ext cx="25560" cy="10159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eft-Right Arrow 18"/>
          <p:cNvSpPr/>
          <p:nvPr/>
        </p:nvSpPr>
        <p:spPr>
          <a:xfrm>
            <a:off x="2286000" y="4191120"/>
            <a:ext cx="304920" cy="152280"/>
          </a:xfrm>
          <a:prstGeom prst="leftRightArrow">
            <a:avLst>
              <a:gd name="adj1" fmla="val 50000"/>
              <a:gd name="adj2" fmla="val 50059"/>
            </a:avLst>
          </a:prstGeom>
          <a:solidFill>
            <a:srgbClr val="f2f2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onut 19"/>
          <p:cNvSpPr/>
          <p:nvPr/>
        </p:nvSpPr>
        <p:spPr>
          <a:xfrm>
            <a:off x="5486400" y="457200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114300"/>
                </a:moveTo>
                <a:lnTo>
                  <a:pt x="0" y="114300"/>
                </a:lnTo>
                <a:arcTo wR="114300" hR="114300" stAng="10800000" swAng="5400000"/>
                <a:lnTo>
                  <a:pt x="114300" y="0"/>
                </a:lnTo>
                <a:arcTo wR="114300" hR="114300" stAng="-5400000" swAng="5400000"/>
                <a:lnTo>
                  <a:pt x="228600" y="114300"/>
                </a:lnTo>
                <a:arcTo wR="114300" hR="114300" stAng="0" swAng="5400000"/>
                <a:lnTo>
                  <a:pt x="114300" y="228600"/>
                </a:lnTo>
                <a:arcTo wR="114300" hR="114300" stAng="5400000" swAng="5400000"/>
                <a:close/>
                <a:moveTo>
                  <a:pt x="57150" y="114300"/>
                </a:moveTo>
                <a:lnTo>
                  <a:pt x="57150" y="114300"/>
                </a:lnTo>
                <a:arcTo wR="57150" hR="57150" stAng="10800000" swAng="-5400000"/>
                <a:lnTo>
                  <a:pt x="114300" y="171450"/>
                </a:lnTo>
                <a:arcTo wR="57150" hR="57150" stAng="5400000" swAng="-5400000"/>
                <a:lnTo>
                  <a:pt x="171450" y="114300"/>
                </a:lnTo>
                <a:arcTo wR="57150" hR="57150" stAng="0" swAng="-5400000"/>
                <a:lnTo>
                  <a:pt x="114300" y="57150"/>
                </a:lnTo>
                <a:arcTo wR="57150" hR="57150" stAng="-540000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21"/>
          <p:cNvSpPr/>
          <p:nvPr/>
        </p:nvSpPr>
        <p:spPr>
          <a:xfrm>
            <a:off x="5600160" y="4800600"/>
            <a:ext cx="37800" cy="15228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5715000" y="4876920"/>
            <a:ext cx="457200" cy="15228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4"/>
          <p:cNvSpPr/>
          <p:nvPr/>
        </p:nvSpPr>
        <p:spPr>
          <a:xfrm flipH="1">
            <a:off x="5944680" y="4495680"/>
            <a:ext cx="227160" cy="457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6172200" y="4952880"/>
            <a:ext cx="990720" cy="18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30"/>
          <p:cNvSpPr/>
          <p:nvPr/>
        </p:nvSpPr>
        <p:spPr>
          <a:xfrm flipH="1">
            <a:off x="6248520" y="3581280"/>
            <a:ext cx="1752480" cy="2743200"/>
          </a:xfrm>
          <a:prstGeom prst="line">
            <a:avLst/>
          </a:prstGeom>
          <a:ln w="7632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2362320" y="4876920"/>
            <a:ext cx="380880" cy="228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3"/>
          <p:cNvSpPr/>
          <p:nvPr/>
        </p:nvSpPr>
        <p:spPr>
          <a:xfrm flipH="1">
            <a:off x="2361960" y="4952880"/>
            <a:ext cx="152280" cy="3812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lowchart: Merge 34"/>
          <p:cNvSpPr/>
          <p:nvPr/>
        </p:nvSpPr>
        <p:spPr>
          <a:xfrm>
            <a:off x="3581280" y="4952880"/>
            <a:ext cx="228600" cy="228600"/>
          </a:xfrm>
          <a:prstGeom prst="flowChartMerg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5"/>
          <p:cNvSpPr/>
          <p:nvPr/>
        </p:nvSpPr>
        <p:spPr>
          <a:xfrm>
            <a:off x="1027800" y="365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Ta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1345680" y="5943600"/>
            <a:ext cx="205236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Válvula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38"/>
          <p:cNvCxnSpPr>
            <a:stCxn id="227" idx="0"/>
          </p:cNvCxnSpPr>
          <p:nvPr/>
        </p:nvCxnSpPr>
        <p:spPr>
          <a:xfrm flipV="1">
            <a:off x="2370600" y="5180760"/>
            <a:ext cx="219960" cy="762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0"/>
          <p:cNvCxnSpPr>
            <a:stCxn id="227" idx="0"/>
          </p:cNvCxnSpPr>
          <p:nvPr/>
        </p:nvCxnSpPr>
        <p:spPr>
          <a:xfrm flipV="1">
            <a:off x="2371680" y="5105160"/>
            <a:ext cx="357264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TextBox 41"/>
          <p:cNvSpPr/>
          <p:nvPr/>
        </p:nvSpPr>
        <p:spPr>
          <a:xfrm>
            <a:off x="3097080" y="5181480"/>
            <a:ext cx="78264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2"/>
          <p:cNvSpPr/>
          <p:nvPr/>
        </p:nvSpPr>
        <p:spPr>
          <a:xfrm>
            <a:off x="4008600" y="4419720"/>
            <a:ext cx="94716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Bo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3"/>
          <p:cNvSpPr/>
          <p:nvPr/>
        </p:nvSpPr>
        <p:spPr>
          <a:xfrm>
            <a:off x="2023560" y="2743200"/>
            <a:ext cx="112860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4"/>
          <p:cNvSpPr/>
          <p:nvPr/>
        </p:nvSpPr>
        <p:spPr>
          <a:xfrm>
            <a:off x="5225400" y="37339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6499800" y="2895480"/>
            <a:ext cx="279144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anómetro y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47"/>
          <p:cNvCxnSpPr>
            <a:endCxn id="217" idx="7"/>
          </p:cNvCxnSpPr>
          <p:nvPr/>
        </p:nvCxnSpPr>
        <p:spPr>
          <a:xfrm flipH="1">
            <a:off x="5680800" y="3276360"/>
            <a:ext cx="948600" cy="13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6" name="Freeform 37"/>
          <p:cNvSpPr/>
          <p:nvPr/>
        </p:nvSpPr>
        <p:spPr>
          <a:xfrm>
            <a:off x="3565440" y="3749760"/>
            <a:ext cx="2336760" cy="1123920"/>
          </a:xfrm>
          <a:custGeom>
            <a:avLst/>
            <a:gdLst/>
            <a:ahLst/>
            <a:rect l="l" t="t" r="r" b="b"/>
            <a:pathLst>
              <a:path w="2336292" h="1124712">
                <a:moveTo>
                  <a:pt x="2267712" y="1124712"/>
                </a:moveTo>
                <a:cubicBezTo>
                  <a:pt x="2302002" y="912114"/>
                  <a:pt x="2336292" y="699516"/>
                  <a:pt x="2194560" y="530352"/>
                </a:cubicBezTo>
                <a:cubicBezTo>
                  <a:pt x="2052828" y="361188"/>
                  <a:pt x="1783080" y="198120"/>
                  <a:pt x="1417320" y="109728"/>
                </a:cubicBezTo>
                <a:cubicBezTo>
                  <a:pt x="1051560" y="21336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2844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Buenos resul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orrecta elección del(los) herbicida(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osis y momento de apli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ulverizador en buenas condi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Tanque limpio, picos nuevos, bomba, filtr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gua de buena c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Aditiv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alib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1 Rectángulo"/>
          <p:cNvSpPr/>
          <p:nvPr/>
        </p:nvSpPr>
        <p:spPr>
          <a:xfrm>
            <a:off x="380880" y="457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onstantia"/>
              </a:rPr>
              <a:t>Como determinamos el volumen de aplic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 Rectángulo"/>
          <p:cNvSpPr/>
          <p:nvPr/>
        </p:nvSpPr>
        <p:spPr>
          <a:xfrm>
            <a:off x="1165320" y="198108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ico pulverizador (gasto: l/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Rectángulo"/>
          <p:cNvSpPr/>
          <p:nvPr/>
        </p:nvSpPr>
        <p:spPr>
          <a:xfrm>
            <a:off x="1142280" y="327672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atrón de aplicación (velocida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Rectángulo"/>
          <p:cNvSpPr/>
          <p:nvPr/>
        </p:nvSpPr>
        <p:spPr>
          <a:xfrm>
            <a:off x="1246320" y="502920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Superficie aplicada (anc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8 Imagen" descr="dibujo.jpg"/>
          <p:cNvPicPr/>
          <p:nvPr/>
        </p:nvPicPr>
        <p:blipFill>
          <a:blip r:embed="rId1"/>
          <a:stretch/>
        </p:blipFill>
        <p:spPr>
          <a:xfrm>
            <a:off x="5181480" y="1676520"/>
            <a:ext cx="28195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Factores que afectan el volumen final y el área cubier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audal del p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Orific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Velocidad de av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ancia entre p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http://www.teejet.com/media/148400/spray-overlap_spanish.jpg"/>
          <p:cNvPicPr/>
          <p:nvPr/>
        </p:nvPicPr>
        <p:blipFill>
          <a:blip r:embed="rId1"/>
          <a:stretch/>
        </p:blipFill>
        <p:spPr>
          <a:xfrm>
            <a:off x="5257800" y="5410080"/>
            <a:ext cx="2730600" cy="819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XR80 VK row"/>
          <p:cNvPicPr/>
          <p:nvPr/>
        </p:nvPicPr>
        <p:blipFill>
          <a:blip r:embed="rId2"/>
          <a:stretch/>
        </p:blipFill>
        <p:spPr>
          <a:xfrm>
            <a:off x="2895480" y="3276720"/>
            <a:ext cx="381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Variables: p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banico plano, cono hueco, cono sólido, doble aban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banico pl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8004, 8002, 1100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l orificio se modifica con el u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Plástico, bronce, acero inoxidable, cerám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Respetar la “vida úti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onut 2"/>
          <p:cNvSpPr/>
          <p:nvPr/>
        </p:nvSpPr>
        <p:spPr>
          <a:xfrm>
            <a:off x="2666880" y="2514600"/>
            <a:ext cx="4038840" cy="3657600"/>
          </a:xfrm>
          <a:custGeom>
            <a:avLst/>
            <a:gdLst>
              <a:gd name="textAreaLeft" fmla="*/ 591480 w 4038840"/>
              <a:gd name="textAreaRight" fmla="*/ 3447360 w 4038840"/>
              <a:gd name="textAreaTop" fmla="*/ 535680 h 3657600"/>
              <a:gd name="textAreaBottom" fmla="*/ 3121920 h 3657600"/>
            </a:gdLst>
            <a:ahLst/>
            <a:rect l="textAreaLeft" t="textAreaTop" r="textAreaRight" b="textAreaBottom"/>
            <a:pathLst>
              <a:path w="4038600" h="3657600">
                <a:moveTo>
                  <a:pt x="0" y="1828800"/>
                </a:moveTo>
                <a:lnTo>
                  <a:pt x="0" y="1828800"/>
                </a:lnTo>
                <a:arcTo wR="2019300" hR="1828800" stAng="-10799997" swAng="5400002"/>
                <a:lnTo>
                  <a:pt x="2019303" y="2"/>
                </a:lnTo>
                <a:arcTo wR="2019300" hR="1828800" stAng="-5399996" swAng="5400003"/>
                <a:lnTo>
                  <a:pt x="4038601" y="1828806"/>
                </a:lnTo>
                <a:arcTo wR="2019300" hR="1828800" stAng="0" swAng="5400002"/>
                <a:lnTo>
                  <a:pt x="2019300" y="3657606"/>
                </a:lnTo>
                <a:arcTo wR="2019300" hR="1828800" stAng="5400002" swAng="5400002"/>
                <a:close/>
                <a:moveTo>
                  <a:pt x="255995" y="1828800"/>
                </a:moveTo>
                <a:lnTo>
                  <a:pt x="255995" y="1828800"/>
                </a:lnTo>
                <a:arcTo wR="1763305" hR="1572805" stAng="-10799996" swAng="-5400000"/>
                <a:lnTo>
                  <a:pt x="2019298" y="3401607"/>
                </a:lnTo>
                <a:arcTo wR="1763305" hR="1572805" stAng="5400002" swAng="-5400000"/>
                <a:lnTo>
                  <a:pt x="3782604" y="1828803"/>
                </a:lnTo>
                <a:arcTo wR="1763305" hR="1572805" stAng="0" swAng="-5400000"/>
                <a:lnTo>
                  <a:pt x="2019299" y="255998"/>
                </a:lnTo>
                <a:arcTo wR="1763305" hR="1572805" stAng="-5399996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"/>
          <p:cNvSpPr/>
          <p:nvPr/>
        </p:nvSpPr>
        <p:spPr>
          <a:xfrm>
            <a:off x="2971800" y="403848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971800" y="449568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376452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nstantia"/>
              </a:rPr>
              <a:t>XR Tee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3859200" y="457200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nstantia"/>
              </a:rPr>
              <a:t>8004  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owchart: Connector 11"/>
          <p:cNvSpPr/>
          <p:nvPr/>
        </p:nvSpPr>
        <p:spPr>
          <a:xfrm>
            <a:off x="3962520" y="4114800"/>
            <a:ext cx="1523880" cy="22860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3"/>
          <p:cNvSpPr/>
          <p:nvPr/>
        </p:nvSpPr>
        <p:spPr>
          <a:xfrm flipV="1">
            <a:off x="3961800" y="4229280"/>
            <a:ext cx="1523880" cy="144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221040" y="12952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Como leer el código de un pico Tee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965520" y="2743200"/>
            <a:ext cx="99468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17"/>
          <p:cNvCxnSpPr>
            <a:stCxn id="258" idx="3"/>
            <a:endCxn id="253" idx="1"/>
          </p:cNvCxnSpPr>
          <p:nvPr/>
        </p:nvCxnSpPr>
        <p:spPr>
          <a:xfrm>
            <a:off x="1935000" y="2927160"/>
            <a:ext cx="1875600" cy="960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0" name="TextBox 18"/>
          <p:cNvSpPr/>
          <p:nvPr/>
        </p:nvSpPr>
        <p:spPr>
          <a:xfrm>
            <a:off x="584640" y="5334120"/>
            <a:ext cx="96264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Ang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20"/>
          <p:cNvCxnSpPr>
            <a:stCxn id="260" idx="3"/>
            <a:endCxn id="254" idx="1"/>
          </p:cNvCxnSpPr>
          <p:nvPr/>
        </p:nvCxnSpPr>
        <p:spPr>
          <a:xfrm flipV="1">
            <a:off x="1522440" y="4833720"/>
            <a:ext cx="2364480" cy="68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2" name="TextBox 21"/>
          <p:cNvSpPr/>
          <p:nvPr/>
        </p:nvSpPr>
        <p:spPr>
          <a:xfrm>
            <a:off x="2240640" y="640080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Caudal, galones/min. a 3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23"/>
          <p:cNvCxnSpPr>
            <a:stCxn id="262" idx="0"/>
          </p:cNvCxnSpPr>
          <p:nvPr/>
        </p:nvCxnSpPr>
        <p:spPr>
          <a:xfrm flipV="1">
            <a:off x="3865680" y="5028840"/>
            <a:ext cx="630720" cy="1372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4" name="TextBox 24"/>
          <p:cNvSpPr/>
          <p:nvPr/>
        </p:nvSpPr>
        <p:spPr>
          <a:xfrm>
            <a:off x="6661800" y="5715000"/>
            <a:ext cx="110736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26"/>
          <p:cNvCxnSpPr/>
          <p:nvPr/>
        </p:nvCxnSpPr>
        <p:spPr>
          <a:xfrm flipH="1" flipV="1">
            <a:off x="5333760" y="4952160"/>
            <a:ext cx="1372320" cy="762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561960" y="595440"/>
          <a:ext cx="801864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595440"/>
                    <a:ext cx="801864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2"/>
          <p:cNvSpPr/>
          <p:nvPr/>
        </p:nvSpPr>
        <p:spPr>
          <a:xfrm>
            <a:off x="928800" y="6019920"/>
            <a:ext cx="2777760" cy="3682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www.agrobalestrini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16:43Z</dcterms:created>
  <dc:creator>User</dc:creator>
  <dc:description/>
  <dc:language>en-US</dc:language>
  <cp:lastModifiedBy>Flia Buono</cp:lastModifiedBy>
  <dcterms:modified xsi:type="dcterms:W3CDTF">2015-11-12T22:10:08Z</dcterms:modified>
  <cp:revision>80</cp:revision>
  <dc:subject/>
  <dc:title>Slide 1</dc:title>
</cp:coreProperties>
</file>