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8.gif" ContentType="image/gif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3980-C95C-4EC2-BC9C-83FF40917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AA7F-922B-43F9-A1C1-09E48840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2A5A-16E0-47DE-8048-535BAD67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AFD6-9FDA-4EAD-AD4C-7C6F957FA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EF02-4EC5-4416-AC5A-5031903E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FF87-9613-4F36-9743-C2D91FB3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6D62-92E9-4755-9364-FAB6A81A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20D5-FFB3-476B-BA88-E4F28850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90FD-549C-4ACA-BD0E-A3796D3A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EE8A-5FF5-492D-B7F2-3AA2AF94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BF84-E1EE-48CD-923B-33B965E9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3C4E-663A-4998-B9F5-28B3045C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7D47-B9F1-4AFE-8045-54C3F5E1504D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500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843280" y="0"/>
            <a:ext cx="364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10108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85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835280" y="73080"/>
            <a:ext cx="55274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1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4360" y="39600"/>
            <a:ext cx="7740360" cy="677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2050920" y="595008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19080"/>
            <a:ext cx="853272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723600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9:16:59Z</dcterms:created>
  <dc:creator>User</dc:creator>
  <dc:description>www.free-powerpoints.goedbegin.be</dc:description>
  <dc:language>en-US</dc:language>
  <cp:lastModifiedBy>Smets</cp:lastModifiedBy>
  <dcterms:modified xsi:type="dcterms:W3CDTF">2008-09-20T06:41:16Z</dcterms:modified>
  <cp:revision>4</cp:revision>
  <dc:subject/>
  <dc:title>Slide 1</dc:title>
</cp:coreProperties>
</file>