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954-AB4F-4DE9-964A-8B306AE5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71A-45CD-4880-AA1B-05C7FB0B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44D-9A2A-496D-ADAC-5620C339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392-593B-4016-AF72-1B6D9158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5AD-AA66-45F1-A92A-7E914765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3F3-7FA8-4505-A861-BE1909F0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6F4-A8BF-4D93-A29A-05586CFC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303-B1C7-4FE4-BEA4-E1DDDC46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3DC-D370-4706-BC9B-2EFB90ED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14C-BF27-46D8-8789-2E8DE650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05B-5D29-4C66-9DB2-79CE4FD4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28C-326E-440D-A17E-F3ECFD06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7088-B26B-46F9-9FB7-19EBB3AAE0F3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00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64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01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35280" y="73080"/>
            <a:ext cx="5527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39600"/>
            <a:ext cx="774036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05092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9080"/>
            <a:ext cx="85327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2360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9:16:59Z</dcterms:created>
  <dc:creator>User</dc:creator>
  <dc:description>www.free-powerpoints.goedbegin.be</dc:description>
  <dc:language>en-US</dc:language>
  <cp:lastModifiedBy>Smets</cp:lastModifiedBy>
  <dcterms:modified xsi:type="dcterms:W3CDTF">2008-09-20T06:41:16Z</dcterms:modified>
  <cp:revision>4</cp:revision>
  <dc:subject/>
  <dc:title>Slide 1</dc:title>
</cp:coreProperties>
</file>