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F6E-DC4E-4413-8609-9FB6B679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881-3759-4886-887E-07AF796E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C41-A383-4EC4-9A27-5835C9EA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242-C4C2-4F0D-96E7-528A880D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E0C-DE6D-4D7C-9892-9D58146F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6EE-436C-4C92-807A-504EFB24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373-F6FB-4492-8FC1-84A8E66E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532-CCDD-441B-AC5C-A294B3BB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4BE-154C-4C93-9CDC-5F62B446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5D5-658F-4CC6-A641-FA1DE4F9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2AC-45A3-4512-89D6-5969522E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38B-C3E6-4C4A-AE8A-8183ACAB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EDCFD3-DA3D-4A1B-8785-AE7E439D97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81673-B9CA-4A12-89B0-044B1DA61B2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6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8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1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2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3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4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5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7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8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0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1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4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7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9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0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1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8:11:40Z</dcterms:created>
  <dc:creator>최봉수</dc:creator>
  <dc:description/>
  <dc:language>en-US</dc:language>
  <cp:lastModifiedBy>맛있다 군만두</cp:lastModifiedBy>
  <dcterms:modified xsi:type="dcterms:W3CDTF">2024-09-24T08:16:36Z</dcterms:modified>
  <cp:revision>3</cp:revision>
  <dc:subject/>
  <dc:title>슬라이드 1</dc:title>
</cp:coreProperties>
</file>