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0F6-6651-444D-B874-FFD4EA418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258-78ED-41BD-A472-26134F6B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B87-0CA7-4C67-9533-94110EA5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33B-2554-4696-B1ED-D17666F7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AD2-93F9-4B1B-9DEB-8AF3AE67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A25-9F19-46A3-9C57-96340D4B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0AB-653C-4668-B295-5ABF6C1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4DB-D758-45DC-B7B5-20F8C9E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090A-0191-49B9-BBB5-0048D5BC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C41-0A3F-4AC5-83EE-045502BA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8F4-E0D6-4501-AF6C-0A5AB07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836-1CEA-4036-ADE8-11031C89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B121C-EEBA-40D5-8FA8-925B8D5FCA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8AD7B-DBCA-4DC0-B374-6DC0FE2B22A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3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8:11:40Z</dcterms:created>
  <dc:creator>최봉수</dc:creator>
  <dc:description/>
  <dc:language>en-US</dc:language>
  <cp:lastModifiedBy>맛있다 군만두</cp:lastModifiedBy>
  <dcterms:modified xsi:type="dcterms:W3CDTF">2024-09-24T08:16:36Z</dcterms:modified>
  <cp:revision>3</cp:revision>
  <dc:subject/>
  <dc:title>슬라이드 1</dc:title>
</cp:coreProperties>
</file>