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0B2-BBD2-4177-9DBC-588DB7BB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D8D6-06D8-45C2-906E-9433D018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939-870B-45AB-97A3-9D1EE16C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4A3-6DCF-493B-9B02-A047CA3F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CE9B-E7FB-4DC2-A71F-84AE2727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C0DD-43CB-4849-B0F6-FA35B410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9C8D-1A48-495E-B0B2-3A024C90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0332-FFC1-41EA-9791-179F18B2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E82C-A3EE-4AF5-89BC-855AAAE3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D658-4A2C-4155-B4DB-EA0BA59D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FE65-4D5C-49DC-80C7-FF85098F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771-50F2-48CB-B410-026B1FAB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1088-CD9C-42CF-A33A-35B8CE59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C2EA-3673-4424-BC2A-2DBEB92A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D6CD-F7FD-40D1-B21F-C8E1719D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6390-9EF5-43D9-97BB-0DFFF0D2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2C69-3083-4B85-A303-28FA970E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53D-C1F3-4193-AA04-0D0F53E1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72DD-4A3C-41B1-A76C-7139F5D3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108-2095-4767-8FD7-7CFD3A91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6A6-4138-468C-B5B7-6752B929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2B6-77EB-4046-8684-C7AC6F07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0CCD-45A9-40DB-8902-27D51E95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34AD-F0F3-4796-82A9-965F7EC8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54C7-97CC-4FB8-95E7-FDD422E4F3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6C15-DD29-4991-BC34-43DD736182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NGENAL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GURUSAN SISTEM MAKL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ERUBAHAN PROSES PENGURUSA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nologi maklumat sed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ntuk semula pr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es pengurusan den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yediak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yediakan kemampuan yg lbih hebat utk membantu para pengurus membuat perancangan,mengendali,memimpin,dan juga mengaw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nt.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 maklumat berangka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olehkan urusniaga dijalankan secara elektro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asi dapat berkongsi data perniagaan,katalog atau mel pesan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hasilkan kecekapan terkini dan menjalin hubungan baru diantara organisasi dan pelang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c0039"/>
                </a:solidFill>
                <a:latin typeface="Arial"/>
              </a:rPr>
              <a:t>DEFINISI SISTEM MAKLUMAT…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kumpulan komponen yang saling berkait di antara satu sama 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peranan utk mengumpul,memproses,menyimpan dan mengagihkan makl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yokong proses membuat keputusan dan pengawalan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KTIVITI SISTEM MAKLU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KEPENTINGAN SISTEM MAKLU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kembangan organis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awal operasi harian dan strategi organis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antu OR menjadi 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pat menjalankan perancangan syarikat dengan tep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awasi proses utama dalam syarik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ENDEKATAN SISTEM MAKLU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dekatan secara teknik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dekatan secara gelag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ENDEKATAN SECARA TEKNIKA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ekankan model2 kajian berasaskan matematik,teknologi fizik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ibatkan teori2 pengkomputeran,kaedah2 pengkomputeran dan kaedah penyimpanan data yg lebih efis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ENDEKATAN SECARA GELAG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kaitan dengan isu-isu gelagat spt penyepaduan pernia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k,rekacipta,perlaksanaan,penggunaan dan pengurusan yg xboleh dikaji secara teknik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ENIS SISTEM MAKLU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Jenis sistem maklu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 peringkat 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 peringkat pengetah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 peringkat penguru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 pada peringkat strateg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ENIS SISTEM UTAM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jenis sistem ut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 sokongan executive-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 pengurusan maklumat-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 sokongan keputusan-D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 kerja berpengetahuan- K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 Automasi pejabat-O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 pemprosesan urusniaga-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6:31:12Z</dcterms:created>
  <dc:creator>inn</dc:creator>
  <dc:description/>
  <dc:language>en-US</dc:language>
  <cp:lastModifiedBy>inn</cp:lastModifiedBy>
  <dcterms:modified xsi:type="dcterms:W3CDTF">2009-07-12T22:35:14Z</dcterms:modified>
  <cp:revision>5</cp:revision>
  <dc:subject/>
  <dc:title>PENGENALAN</dc:title>
</cp:coreProperties>
</file>