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EDF-2241-44A7-A382-360E22BC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048-7A43-4E30-BFBE-37E00A85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727-9C40-4A6A-858B-D5747FAE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C46-D641-4394-AE05-395DD47B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B9D0-891B-4423-A8CD-F800E055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A942-173B-425D-9DC9-49A3079C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6178-FF95-4E16-8FC0-77DB1F24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4850-F32A-408C-B2EE-82F85937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9E20-E612-461F-88D0-BA13CD38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7DEF-3C87-4703-8066-2222ACDF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9CCD-19F9-4455-BF0B-3870B27F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D042-A7C2-4B00-975C-7A3969DA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C857-7E2F-4C5D-BC2C-CF07555B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6E56-CC5B-4215-A055-9377130E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F5AB-AB0B-489D-B53F-9B6F6BE2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A8A9-88BE-45EC-96D0-11F7A967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BD4B-B972-4B64-83B5-BFFDF6F7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8C1A-105A-4A9F-8087-E12B5306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03C-777E-4BB0-A785-DC18913D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E03-649D-43F9-B2F2-779552FC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209-A207-4F1C-BA87-4A8C40A3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31AE-E7E4-4FF2-B7B9-55E70B75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0BC-0F42-4116-8A61-A6A178E4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B5A-8B0B-462C-B3AF-F8062A90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5030-27ED-4871-BE82-703C0C59BB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1292-40C0-46A5-BA42-7E9171F13B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NGENAL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GURUSAN SISTEM MAKL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ERUBAHAN PROSES PENGURUSA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nologi maklumat sed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ntuk semula pr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es pengurusan de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yediak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yediakan kemampuan yg lbih hebat utk membantu para pengurus membuat perancangan,mengendali,memimpin,dan juga mengaw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nt.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maklumat berangka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olehkan urusniaga dijalankan secara elektro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asi dapat berkongsi data perniagaan,katalog atau mel pesan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hasilkan kecekapan terkini dan menjalin hubungan baru diantara organisasi dan pelang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c0039"/>
                </a:solidFill>
                <a:latin typeface="Arial"/>
              </a:rPr>
              <a:t>DEFINISI SISTEM MAKLUMAT…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kumpulan komponen yang saling berkait di antara satu sama 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peranan utk mengumpul,memproses,menyimpan dan mengagihkan makl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yokong proses membuat keputusan dan pengawalan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KTIVITI SISTEM MAKLU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KEPENTINGAN SISTEM MAKLU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kembangan organis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awal operasi harian dan strategi organis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antu OR menjadi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pat menjalankan perancangan syarikat dengan tep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awasi proses utama dalam syarik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ENDEKATAN SISTEM MAKLU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dekatan secara teknik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dekatan secara gelag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ENDEKATAN SECARA TEKNIKA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ekankan model2 kajian berasaskan matematik,teknologi fizik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ibatkan teori2 pengkomputeran,kaedah2 pengkomputeran dan kaedah penyimpanan data yg lebih efis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ENDEKATAN SECARA GELAG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kaitan dengan isu-isu gelagat spt penyepaduan pernia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k,rekacipta,perlaksanaan,penggunaan dan pengurusan yg xboleh dikaji secara teknik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ENIS SISTEM MAKLU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Jenis sistem maklu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 peringkat 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 peringkat pengetah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 peringkat penguru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 pada peringkat strateg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ENIS SISTEM UTAM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jenis sistem ut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sokongan executive-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pengurusan maklumat-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sokongan keputusan-D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kerja berpengetahuan- K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Automasi pejabat-O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pemprosesan urusniaga-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6:31:12Z</dcterms:created>
  <dc:creator>inn</dc:creator>
  <dc:description/>
  <dc:language>en-US</dc:language>
  <cp:lastModifiedBy>inn</cp:lastModifiedBy>
  <dcterms:modified xsi:type="dcterms:W3CDTF">2009-07-12T22:35:14Z</dcterms:modified>
  <cp:revision>5</cp:revision>
  <dc:subject/>
  <dc:title>PENGENALAN</dc:title>
</cp:coreProperties>
</file>