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0AD9-C60D-4F5A-BD50-44EB5AD43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BCE6-203E-441A-82EC-0D20FD28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E656-6BA1-4646-AF22-CD71A98B6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C458-B9A9-4B48-9563-CD79BF572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24C8-716D-423F-A582-04FD9107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C79B-787C-4AF7-B78E-50486220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AE45-2705-49D7-92DA-D9AE1D63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C9CB-E09B-4925-8B78-B975F815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139B-E00F-4200-844A-1F501D48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7355-57C0-497B-9013-D8CA94FB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E925-4B2D-4771-96C0-E11F1A95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5AAB-C50B-4B52-AD28-1CD08414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1916-30BD-4815-99A5-EB175BFE7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-1485720"/>
            <a:ext cx="121932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26668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700" spc="-1" strike="noStrike">
                <a:solidFill>
                  <a:srgbClr val="00ffff"/>
                </a:solidFill>
                <a:latin typeface="Arial"/>
              </a:rPr>
              <a:t>u</a:t>
            </a:r>
            <a:endParaRPr b="0" lang="en-US" sz="20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426708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i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238880" y="2743200"/>
            <a:ext cx="16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ff"/>
                </a:solidFill>
                <a:latin typeface="Lucida Handwriting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Usine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403884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38120" y="-6264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2590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2920" y="2895480"/>
            <a:ext cx="18288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lapin%20noir%20et%20blanc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3200400" cy="2851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602000" y="4267080"/>
            <a:ext cx="148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16:40:35Z</dcterms:created>
  <dc:creator>utilisateur</dc:creator>
  <dc:description/>
  <dc:language>en-US</dc:language>
  <cp:lastModifiedBy>Le Pivert</cp:lastModifiedBy>
  <dcterms:modified xsi:type="dcterms:W3CDTF">2010-05-16T19:53:20Z</dcterms:modified>
  <cp:revision>14</cp:revision>
  <dc:subject/>
  <dc:title>  </dc:title>
</cp:coreProperties>
</file>