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F843-83C5-473D-BE68-37421A47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A691-CDD8-4779-B06C-FF5B2E09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B9A3-E1CD-469D-8C78-599422C0D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9E0-0B53-4014-A217-0AE07B012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11BA-38EB-466E-B6A8-2E8B1F79B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D30D-87A8-406C-9191-F1D8A683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0807-E9E7-41DF-A3F7-92651F33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3A2E-CCD3-455E-8BE7-2000F4AF9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C543-B1C2-435D-AFA8-7F923649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A245-6099-4990-B655-734BEC05B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DEDC-0BA6-4143-8FC2-FBF5D6C5C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0007-C177-4F4B-98FF-A3D2DBCD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49225-AAF3-4C78-88C3-D79A7163D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-1485720"/>
            <a:ext cx="1219320" cy="34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26668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700" spc="-1" strike="noStrike">
                <a:solidFill>
                  <a:srgbClr val="00ffff"/>
                </a:solidFill>
                <a:latin typeface="Arial"/>
              </a:rPr>
              <a:t>u</a:t>
            </a:r>
            <a:endParaRPr b="0" lang="en-US" sz="20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43000" y="4267080"/>
            <a:ext cx="205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ff"/>
                </a:solidFill>
                <a:latin typeface="Arial"/>
              </a:rPr>
              <a:t>u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si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238880" y="27432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ffff"/>
                </a:solidFill>
                <a:latin typeface="Lucida Handwriting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Usine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403884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38120" y="-62640"/>
            <a:ext cx="7543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2590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162920" y="2895480"/>
            <a:ext cx="182880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lapin%20noir%20et%20blanc" descr=""/>
          <p:cNvPicPr/>
          <p:nvPr/>
        </p:nvPicPr>
        <p:blipFill>
          <a:blip r:embed="rId1"/>
          <a:stretch/>
        </p:blipFill>
        <p:spPr>
          <a:xfrm>
            <a:off x="609480" y="1143000"/>
            <a:ext cx="3200400" cy="2851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602000" y="4267080"/>
            <a:ext cx="148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p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16:40:35Z</dcterms:created>
  <dc:creator>utilisateur</dc:creator>
  <dc:description/>
  <dc:language>en-US</dc:language>
  <cp:lastModifiedBy>Le Pivert</cp:lastModifiedBy>
  <dcterms:modified xsi:type="dcterms:W3CDTF">2010-05-16T19:53:20Z</dcterms:modified>
  <cp:revision>14</cp:revision>
  <dc:subject/>
  <dc:title>  </dc:title>
</cp:coreProperties>
</file>