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73B-0DC3-46D8-A38D-40E1A545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67E9-FB0C-433F-8498-694A048B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2E5-5D01-45A2-880C-E9EDFEE5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C48-A7A1-4E9A-9191-712B680C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D20-05EB-4039-AF9C-87F0A2EC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F12-0599-4613-8455-63AF7103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C0F-70A4-428F-A63D-5AADF13A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AC5-447B-4644-9930-AAA8753E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9F0-3A94-4DE7-9475-F41F2251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37D-3BCB-4EC8-A5EB-969CE3D1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F97-D04A-4CA7-8AD2-64716D06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BED-D05B-4ED5-ADD9-ED457CCD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1D7B-2E90-42F3-A685-AC13BE9CEF5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5:35:55Z</dcterms:modified>
  <cp:revision>25</cp:revision>
  <dc:subject/>
  <dc:title>슬라이드 1</dc:title>
</cp:coreProperties>
</file>