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B25-E807-46E9-A52A-E31A5604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41C-7E46-4222-AFD1-C0D6D417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A86-C00E-4153-81F1-1F8DAB68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DC3-F043-4CB9-93FE-7588E591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73B-2147-45CE-9F63-D86A52A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E96-F1FB-4797-8893-3DBE149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639-E8A8-4F34-AE75-DC103F7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8ED-A96F-4F75-8DE4-C7738F3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173-C9A1-4B9C-9242-5206A9F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A84-0CFD-4EDF-BEA9-78FDBB5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343-FB99-4C82-9DBB-D3120AA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7ED-C006-4253-8247-7B6DF93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701-0667-4276-8063-7C5113BEEB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35:55Z</dcterms:modified>
  <cp:revision>25</cp:revision>
  <dc:subject/>
  <dc:title>슬라이드 1</dc:title>
</cp:coreProperties>
</file>