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EA2-B2D4-47E7-9AD2-11690965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3D0-F699-4674-99C3-796458B1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A92-3CCE-4F0F-8675-E7AC1892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3C1-38F7-4B2A-94AF-B01E5E8C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B88-0CC2-4321-844B-0183175A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119-5212-444F-BFD3-9036E913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8D63-7594-49AB-9B3D-E2F04E57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3B0-F7CE-489F-B0D2-C5FF20DC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564-495B-4852-BF44-C8F11431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ED0-3F02-481B-92C8-41D61A44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CA3-BBCC-4CA0-ABA5-3D48F68C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FBE-F60C-47E3-89B0-AC6D64CC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2A22-6798-44D7-8A1D-D8F1FCCA281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2:10:29Z</dcterms:modified>
  <cp:revision>25</cp:revision>
  <dc:subject/>
  <dc:title>슬라이드 1</dc:title>
</cp:coreProperties>
</file>