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3EE-917A-4448-AE1A-811071D1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B80-7A95-4B15-88F5-9214C412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C2B-3C69-4ECB-BD22-2B60A44C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BD4-D15C-4D0B-8A5F-36B75EE6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BE6-763D-45F6-9A04-A5866E73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196-1307-4621-BF59-A4C2F48A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B89-9265-4BBA-A11F-1EFC9756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F3A-4664-435D-8B93-75B7A199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8BB-C3FC-44DD-96EC-9236274F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BDC-1591-4F29-AE6C-C40E940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B67-9328-490A-9E33-3F7215D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8B1-A5ED-445B-A74F-4035F8CC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51EF-5890-4AAC-AEFA-EFF5892B96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2:10:29Z</dcterms:modified>
  <cp:revision>25</cp:revision>
  <dc:subject/>
  <dc:title>슬라이드 1</dc:title>
</cp:coreProperties>
</file>