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6B4E-D96B-4267-9477-CC3D9630A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3157-9D3F-460B-A3EC-04B3356FF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BB6A-BB73-4C8A-8E2F-4A474332D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3BCC-AECA-4141-AABD-C90229C0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0698-8B4F-4ED9-9EC9-468EBD7F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1701-1329-4B17-B097-771A841E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FA46-5C29-4351-AD7A-B4C542A2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C963-FB0D-4C71-981E-80C6E4CA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1671-E6C1-4D5D-AEF6-EBFB73DE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0D63-4AEA-4031-9B47-9B61A5AC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F5F5-BB9A-4EA1-AAEF-DA1CE7CA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E82A-9133-46F9-A3F5-045F5DEE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2F6E-9770-43B3-B52D-F7F5CD32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4F2A-8DBF-455B-A8EA-12EC637A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BFF7-A83E-4910-9D45-44A01EDF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281B-DD1C-4857-BF92-B494139E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AB7C-D97D-4723-8D08-BE9BC68D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8507-29BD-4EF6-8036-3F03AEFD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2622-C0B5-4DF3-9ED1-C1717312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E18F-7E6B-4781-8F01-7A4E0938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9CD3C-1C65-4CEF-AA20-24342375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4B812-4ED7-4EBF-98BC-31F13D8B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14AC4-4AB3-42B3-B54C-2D772CBE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FA604-8465-4525-81EE-E2B4D8BD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B72CD-DC4B-4374-9F12-1F2C3520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38D-01D8-4335-ABC2-7EBE88BE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9815B-4727-4CCC-9A64-3D91FA08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7C43D-FEA9-4AB2-8445-70FD2E30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E33BC-E270-4B16-9FDB-1231CAFD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207E8-54D3-4F10-87B7-CDF6A165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81942-9653-45EC-916D-F47ED6A4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612E6-1D80-471F-BFA0-2472EFB6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74DEC-42F5-4AF8-8756-B0163165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D0BD7-E191-46C5-948A-45D37C2F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B2232-C61B-4E0F-9CDB-30831C11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9571B-E5E4-4C51-AB37-4956EEE0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92B6-303B-4236-A152-924EFA32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E1D08-2259-46CA-AD5D-5968DE1C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17207-505C-45C8-9A79-C2E5E585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6DCC3-5E95-4093-AE3C-E5931E57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1AEA4-C8D2-4D16-9879-87BB2D4A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DB5CC-FF4B-40BC-A658-81FE6D3C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F71A3-139A-4803-8666-4662CB52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E3FDD-8A1F-492A-9F54-BA9C26E6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F3AC6-ACD0-4658-AC92-822BCFAE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894F3-5842-4B46-953E-10A8D34F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273-29C3-4D04-853C-8A6B59FB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848F-1A98-43B9-8CDE-235624DD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1D1B-B544-47B3-90B0-7E855B3A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1E3A-8E86-4D86-9EDD-196E3F23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D020-7B7C-4872-AABD-C65AE242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114B-38D1-4D28-85BA-A6BB799A3DC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46CE-E995-4737-AA67-DA82334A2FB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0305-D7FE-4F56-8714-BAD3D3ECA30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D903-5EA5-4B14-9824-04AEEF49961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756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"/>
          <p:cNvSpPr/>
          <p:nvPr/>
        </p:nvSpPr>
        <p:spPr>
          <a:xfrm>
            <a:off x="4343400" y="4530600"/>
            <a:ext cx="44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Lucida Sans Unicode"/>
              </a:rPr>
              <a:t>          </a:t>
            </a:r>
            <a:r>
              <a:rPr b="1" lang="en-US" sz="2000" spc="-1" strike="noStrike">
                <a:solidFill>
                  <a:srgbClr val="0f6fc6"/>
                </a:solidFill>
                <a:latin typeface="Lucida Sans Unicode"/>
              </a:rPr>
              <a:t>Raj kumar D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Lucida Sans Unicode"/>
              </a:rPr>
              <a:t>          </a:t>
            </a:r>
            <a:r>
              <a:rPr b="1" lang="en-US" sz="2000" spc="-1" strike="noStrike">
                <a:solidFill>
                  <a:srgbClr val="0f6fc6"/>
                </a:solidFill>
                <a:latin typeface="Lucida Sans Unicode"/>
              </a:rPr>
              <a:t>Department Of  BC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6095880" y="4114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 Unicode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62120" y="5714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www.smarteach.blogspot.com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000000"/>
                </a:solidFill>
                <a:uFillTx/>
                <a:latin typeface="Calibri"/>
              </a:rPr>
              <a:t>FOUR STAGES OF IDENTIFICA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Capture-Capture the behavioral samp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Extraction-unique data is extracted from the sample and a template is creat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Comparison-the template is compared with a new samp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Match/non match-the system decides whether the new samples are matched or no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609480" y="1905120"/>
            <a:ext cx="685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"/>
          <p:cNvSpPr/>
          <p:nvPr/>
        </p:nvSpPr>
        <p:spPr>
          <a:xfrm>
            <a:off x="152280" y="2590920"/>
            <a:ext cx="182880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2514600" y="2514600"/>
            <a:ext cx="1828800" cy="533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x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4724280" y="2514600"/>
            <a:ext cx="1752840" cy="533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6781680" y="1676520"/>
            <a:ext cx="1600200" cy="16761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atch/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5791320" y="4419720"/>
            <a:ext cx="2514600" cy="12189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ccept/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8"/>
          <p:cNvSpPr/>
          <p:nvPr/>
        </p:nvSpPr>
        <p:spPr>
          <a:xfrm>
            <a:off x="8381880" y="2514600"/>
            <a:ext cx="3812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0"/>
          <p:cNvSpPr/>
          <p:nvPr/>
        </p:nvSpPr>
        <p:spPr>
          <a:xfrm flipH="1">
            <a:off x="8991720" y="2514600"/>
            <a:ext cx="1440" cy="28195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2"/>
          <p:cNvSpPr/>
          <p:nvPr/>
        </p:nvSpPr>
        <p:spPr>
          <a:xfrm flipH="1" flipV="1">
            <a:off x="8305560" y="5181120"/>
            <a:ext cx="6858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ight Arrow 14"/>
          <p:cNvSpPr/>
          <p:nvPr/>
        </p:nvSpPr>
        <p:spPr>
          <a:xfrm>
            <a:off x="2057400" y="266688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ight Arrow 18"/>
          <p:cNvSpPr/>
          <p:nvPr/>
        </p:nvSpPr>
        <p:spPr>
          <a:xfrm>
            <a:off x="4419720" y="2666880"/>
            <a:ext cx="304560" cy="381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ight Arrow 19"/>
          <p:cNvSpPr/>
          <p:nvPr/>
        </p:nvSpPr>
        <p:spPr>
          <a:xfrm>
            <a:off x="6553080" y="2590920"/>
            <a:ext cx="228600" cy="304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ight Arrow 21"/>
          <p:cNvSpPr/>
          <p:nvPr/>
        </p:nvSpPr>
        <p:spPr>
          <a:xfrm>
            <a:off x="8610480" y="2286000"/>
            <a:ext cx="381240" cy="380880"/>
          </a:xfrm>
          <a:prstGeom prst="rightArrow">
            <a:avLst>
              <a:gd name="adj1" fmla="val 50000"/>
              <a:gd name="adj2" fmla="val 5305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eft Arrow 24"/>
          <p:cNvSpPr/>
          <p:nvPr/>
        </p:nvSpPr>
        <p:spPr>
          <a:xfrm>
            <a:off x="8305920" y="4952880"/>
            <a:ext cx="533160" cy="484200"/>
          </a:xfrm>
          <a:prstGeom prst="leftArrow">
            <a:avLst>
              <a:gd name="adj1" fmla="val 50000"/>
              <a:gd name="adj2" fmla="val 4997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2365560" y="685800"/>
            <a:ext cx="528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Lucida Sans Unicode"/>
              </a:rPr>
              <a:t>STAGES OF IDENT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000000"/>
                </a:solidFill>
                <a:uFillTx/>
                <a:latin typeface="Calibri"/>
              </a:rPr>
              <a:t>COMPONENTS OF FACE RECOGNI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57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Enrollment module-An automated mechanism that scans and captures a digital or analog image of a living personal characteris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53880" indent="-247680">
              <a:spcBef>
                <a:spcPts val="57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53880" indent="-247680">
              <a:spcBef>
                <a:spcPts val="57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Database-Another entity which handles compression ,processing ,data storage and compression of the captured data with stored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53880" indent="-247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53880" indent="-247680">
              <a:spcBef>
                <a:spcPts val="57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Identification module-The third interfaces with the application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"/>
          <p:cNvSpPr/>
          <p:nvPr/>
        </p:nvSpPr>
        <p:spPr>
          <a:xfrm>
            <a:off x="0" y="2743200"/>
            <a:ext cx="1981080" cy="1447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4"/>
          <p:cNvSpPr/>
          <p:nvPr/>
        </p:nvSpPr>
        <p:spPr>
          <a:xfrm>
            <a:off x="228600" y="350532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2286000" y="609480"/>
            <a:ext cx="5791320" cy="18288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7010280" y="3124080"/>
            <a:ext cx="198144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Dat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2286000" y="4191120"/>
            <a:ext cx="5943600" cy="1981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10"/>
          <p:cNvSpPr/>
          <p:nvPr/>
        </p:nvSpPr>
        <p:spPr>
          <a:xfrm>
            <a:off x="2362320" y="990720"/>
            <a:ext cx="1981080" cy="12189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e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ounded Rectangle 11"/>
          <p:cNvSpPr/>
          <p:nvPr/>
        </p:nvSpPr>
        <p:spPr>
          <a:xfrm>
            <a:off x="4648320" y="990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12"/>
          <p:cNvSpPr/>
          <p:nvPr/>
        </p:nvSpPr>
        <p:spPr>
          <a:xfrm>
            <a:off x="6324480" y="990720"/>
            <a:ext cx="144792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14"/>
          <p:cNvSpPr/>
          <p:nvPr/>
        </p:nvSpPr>
        <p:spPr>
          <a:xfrm>
            <a:off x="2286000" y="4648320"/>
            <a:ext cx="1981080" cy="13716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eprocessing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ounded Rectangle 16"/>
          <p:cNvSpPr/>
          <p:nvPr/>
        </p:nvSpPr>
        <p:spPr>
          <a:xfrm>
            <a:off x="4419720" y="4800600"/>
            <a:ext cx="1371600" cy="10666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ounded Rectangle 17"/>
          <p:cNvSpPr/>
          <p:nvPr/>
        </p:nvSpPr>
        <p:spPr>
          <a:xfrm>
            <a:off x="6019920" y="4648320"/>
            <a:ext cx="2057400" cy="13716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Face rag &amp; sc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19"/>
          <p:cNvSpPr/>
          <p:nvPr/>
        </p:nvSpPr>
        <p:spPr>
          <a:xfrm>
            <a:off x="990720" y="2743200"/>
            <a:ext cx="914400" cy="91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33"/>
          <p:cNvSpPr/>
          <p:nvPr/>
        </p:nvSpPr>
        <p:spPr>
          <a:xfrm flipV="1">
            <a:off x="837360" y="228240"/>
            <a:ext cx="1800" cy="2438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35"/>
          <p:cNvSpPr/>
          <p:nvPr/>
        </p:nvSpPr>
        <p:spPr>
          <a:xfrm flipV="1">
            <a:off x="838080" y="152280"/>
            <a:ext cx="7772400" cy="763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37"/>
          <p:cNvSpPr/>
          <p:nvPr/>
        </p:nvSpPr>
        <p:spPr>
          <a:xfrm flipH="1">
            <a:off x="8838720" y="152280"/>
            <a:ext cx="1800" cy="297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39"/>
          <p:cNvSpPr/>
          <p:nvPr/>
        </p:nvSpPr>
        <p:spPr>
          <a:xfrm flipV="1">
            <a:off x="837360" y="2666520"/>
            <a:ext cx="18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43"/>
          <p:cNvSpPr/>
          <p:nvPr/>
        </p:nvSpPr>
        <p:spPr>
          <a:xfrm>
            <a:off x="8077320" y="1523880"/>
            <a:ext cx="30456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47"/>
          <p:cNvSpPr/>
          <p:nvPr/>
        </p:nvSpPr>
        <p:spPr>
          <a:xfrm flipH="1">
            <a:off x="8380080" y="1525680"/>
            <a:ext cx="3240" cy="16002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49"/>
          <p:cNvSpPr/>
          <p:nvPr/>
        </p:nvSpPr>
        <p:spPr>
          <a:xfrm>
            <a:off x="8229600" y="5181480"/>
            <a:ext cx="38088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56"/>
          <p:cNvSpPr/>
          <p:nvPr/>
        </p:nvSpPr>
        <p:spPr>
          <a:xfrm flipH="1">
            <a:off x="8456760" y="5105520"/>
            <a:ext cx="1440" cy="9158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58"/>
          <p:cNvSpPr/>
          <p:nvPr/>
        </p:nvSpPr>
        <p:spPr>
          <a:xfrm>
            <a:off x="2057400" y="1523880"/>
            <a:ext cx="2286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67"/>
          <p:cNvSpPr/>
          <p:nvPr/>
        </p:nvSpPr>
        <p:spPr>
          <a:xfrm flipH="1">
            <a:off x="2131560" y="2209680"/>
            <a:ext cx="1800" cy="22114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74"/>
          <p:cNvSpPr/>
          <p:nvPr/>
        </p:nvSpPr>
        <p:spPr>
          <a:xfrm flipH="1" flipV="1">
            <a:off x="1980720" y="5334120"/>
            <a:ext cx="30492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76"/>
          <p:cNvSpPr/>
          <p:nvPr/>
        </p:nvSpPr>
        <p:spPr>
          <a:xfrm flipH="1">
            <a:off x="2133720" y="4421160"/>
            <a:ext cx="1440" cy="379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ight Arrow 79"/>
          <p:cNvSpPr/>
          <p:nvPr/>
        </p:nvSpPr>
        <p:spPr>
          <a:xfrm>
            <a:off x="4343400" y="1447920"/>
            <a:ext cx="304920" cy="560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ight Arrow 80"/>
          <p:cNvSpPr/>
          <p:nvPr/>
        </p:nvSpPr>
        <p:spPr>
          <a:xfrm>
            <a:off x="6019920" y="1447920"/>
            <a:ext cx="30456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ight Arrow 81"/>
          <p:cNvSpPr/>
          <p:nvPr/>
        </p:nvSpPr>
        <p:spPr>
          <a:xfrm>
            <a:off x="4191120" y="5105520"/>
            <a:ext cx="228600" cy="712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ight Arrow 82"/>
          <p:cNvSpPr/>
          <p:nvPr/>
        </p:nvSpPr>
        <p:spPr>
          <a:xfrm>
            <a:off x="5791320" y="5181480"/>
            <a:ext cx="228600" cy="609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ight Arrow 83"/>
          <p:cNvSpPr/>
          <p:nvPr/>
        </p:nvSpPr>
        <p:spPr>
          <a:xfrm>
            <a:off x="1981080" y="1219320"/>
            <a:ext cx="304920" cy="78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86"/>
          <p:cNvSpPr/>
          <p:nvPr/>
        </p:nvSpPr>
        <p:spPr>
          <a:xfrm flipH="1" flipV="1">
            <a:off x="1676520" y="2209320"/>
            <a:ext cx="4572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89"/>
          <p:cNvSpPr/>
          <p:nvPr/>
        </p:nvSpPr>
        <p:spPr>
          <a:xfrm flipV="1">
            <a:off x="1674000" y="1601640"/>
            <a:ext cx="3240" cy="6098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92"/>
          <p:cNvSpPr/>
          <p:nvPr/>
        </p:nvSpPr>
        <p:spPr>
          <a:xfrm>
            <a:off x="1600200" y="1600200"/>
            <a:ext cx="380880" cy="1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ight Arrow 97"/>
          <p:cNvSpPr/>
          <p:nvPr/>
        </p:nvSpPr>
        <p:spPr>
          <a:xfrm>
            <a:off x="1828800" y="5029200"/>
            <a:ext cx="380880" cy="789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101"/>
          <p:cNvSpPr/>
          <p:nvPr/>
        </p:nvSpPr>
        <p:spPr>
          <a:xfrm flipH="1" flipV="1">
            <a:off x="1523880" y="4800600"/>
            <a:ext cx="53352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103"/>
          <p:cNvSpPr/>
          <p:nvPr/>
        </p:nvSpPr>
        <p:spPr>
          <a:xfrm flipH="1">
            <a:off x="1598760" y="4802040"/>
            <a:ext cx="2880" cy="685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105"/>
          <p:cNvSpPr/>
          <p:nvPr/>
        </p:nvSpPr>
        <p:spPr>
          <a:xfrm>
            <a:off x="1600200" y="5486400"/>
            <a:ext cx="30492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traight Connector 107"/>
          <p:cNvSpPr/>
          <p:nvPr/>
        </p:nvSpPr>
        <p:spPr>
          <a:xfrm>
            <a:off x="2057400" y="4800600"/>
            <a:ext cx="7632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Down Arrow 110"/>
          <p:cNvSpPr/>
          <p:nvPr/>
        </p:nvSpPr>
        <p:spPr>
          <a:xfrm flipH="1">
            <a:off x="8228880" y="266688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116"/>
          <p:cNvSpPr/>
          <p:nvPr/>
        </p:nvSpPr>
        <p:spPr>
          <a:xfrm>
            <a:off x="8610480" y="152280"/>
            <a:ext cx="3049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Down Arrow 117"/>
          <p:cNvSpPr/>
          <p:nvPr/>
        </p:nvSpPr>
        <p:spPr>
          <a:xfrm>
            <a:off x="8763120" y="2590920"/>
            <a:ext cx="152280" cy="44424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0"/>
          <p:cNvSpPr/>
          <p:nvPr/>
        </p:nvSpPr>
        <p:spPr>
          <a:xfrm>
            <a:off x="3733920" y="6094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nrollment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22"/>
          <p:cNvSpPr/>
          <p:nvPr/>
        </p:nvSpPr>
        <p:spPr>
          <a:xfrm>
            <a:off x="8305920" y="6019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e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29"/>
          <p:cNvSpPr/>
          <p:nvPr/>
        </p:nvSpPr>
        <p:spPr>
          <a:xfrm>
            <a:off x="3200400" y="4267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Verification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Down Arrow 132"/>
          <p:cNvSpPr/>
          <p:nvPr/>
        </p:nvSpPr>
        <p:spPr>
          <a:xfrm>
            <a:off x="8305920" y="5638680"/>
            <a:ext cx="304560" cy="4572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37"/>
          <p:cNvSpPr/>
          <p:nvPr/>
        </p:nvSpPr>
        <p:spPr>
          <a:xfrm>
            <a:off x="1981080" y="3429000"/>
            <a:ext cx="2286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ight Arrow 142"/>
          <p:cNvSpPr/>
          <p:nvPr/>
        </p:nvSpPr>
        <p:spPr>
          <a:xfrm>
            <a:off x="2057400" y="3429000"/>
            <a:ext cx="76320" cy="46080"/>
          </a:xfrm>
          <a:prstGeom prst="rightArrow">
            <a:avLst>
              <a:gd name="adj1" fmla="val 50000"/>
              <a:gd name="adj2" fmla="val 5003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43"/>
          <p:cNvSpPr/>
          <p:nvPr/>
        </p:nvSpPr>
        <p:spPr>
          <a:xfrm>
            <a:off x="0" y="2743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Us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ADVANTA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90476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57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onstantia"/>
              </a:rPr>
              <a:t>Convenience and  social acceptabilit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spcBef>
                <a:spcPts val="57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onstantia"/>
              </a:rPr>
              <a:t>Easy to us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onstantia"/>
              </a:rPr>
              <a:t>Inexpensive biometric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TextBox 3"/>
          <p:cNvSpPr/>
          <p:nvPr/>
        </p:nvSpPr>
        <p:spPr>
          <a:xfrm>
            <a:off x="380880" y="4038480"/>
            <a:ext cx="4191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000000"/>
                </a:solidFill>
                <a:uFillTx/>
                <a:latin typeface="Lucida Sans Unicode"/>
              </a:rPr>
              <a:t>DISADVANTAG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0" y="4867200"/>
            <a:ext cx="792468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Lucida Sans Unicode"/>
              </a:rPr>
              <a:t>   </a:t>
            </a:r>
            <a:r>
              <a:rPr b="0" lang="en-US" sz="1800" spc="-1" strike="noStrike">
                <a:solidFill>
                  <a:srgbClr val="262626"/>
                </a:solidFill>
                <a:latin typeface="Lucida Sans Unicode"/>
              </a:rPr>
              <a:t>Face recognition systems can’t tell the difference between            identical tw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Lucida Sans Unicode"/>
              </a:rPr>
              <a:t>   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Problem with false rejection when people change their hair style,      grow shave a beard or wear gla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THE SOFTWA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ig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rma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resen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tch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1252440" y="96840"/>
            <a:ext cx="5757840" cy="676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uture Of Face Recogni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consider the problem imposs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standard way of approaching the probl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vancements in hardware and softw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low integration into society in limited environ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ery large potential mark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Subtitle 2"/>
          <p:cNvSpPr/>
          <p:nvPr/>
        </p:nvSpPr>
        <p:spPr>
          <a:xfrm>
            <a:off x="762120" y="5715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www.smarteach.blogspo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APPLIC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Government U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. Law enforcemen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2.Security/counterterroris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3.Immigr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ommercial U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.Day ca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2.Residential securit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3.Voter verific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4.Banking using ATM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Multimedia Managemen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6.Smart Card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7.Surveillanc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Subtitle 2"/>
          <p:cNvSpPr/>
          <p:nvPr/>
        </p:nvSpPr>
        <p:spPr>
          <a:xfrm>
            <a:off x="121932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www.smarteach.blogspo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CONCLU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ce recognition technologies have be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ociated generally with very costly top sec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lications. Today the core technologies ha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olved and the cost of equipments is going down dramatically due to the integr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Subtitle 2"/>
          <p:cNvSpPr/>
          <p:nvPr/>
        </p:nvSpPr>
        <p:spPr>
          <a:xfrm>
            <a:off x="762120" y="5715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www.smarteach.blogspo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  </a:t>
            </a: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CONTENTS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ISTORY OF  FACE RECOGNITI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BIOMETRIC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EXISTING BIOMETRIC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WHY WE CHOOSE FACE RECOGNITION OVER OTHER BIOMETRIC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BASIC STEPS FOR FACE RECOGNITI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OMPARISION  IN  FACE  RECOGNITI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OUR STAGE OF IDENTIFICATI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TAGE OF IDENTIFICATION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OMPONANT   OF  FACE   RECOGNITI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DVANTAGE  &amp;  DISADVANTAG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OW   FACIAL  RECOGNITION  WORK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UTURE  OF  FACE  RECOGNITI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ONCLUSION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190296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lackadder ITC"/>
              </a:rPr>
              <a:t>THANK YOU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ubtitle 2"/>
          <p:cNvSpPr/>
          <p:nvPr/>
        </p:nvSpPr>
        <p:spPr>
          <a:xfrm>
            <a:off x="762120" y="5715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www.smarteach.blogspo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Constantia"/>
              </a:rPr>
              <a:t>Face recognition is an attractive biometric for use in security applications. Face  recognition is non-intrusive, it can be performed without the subject’s knowing. This become particularly important in modern times because demand for enhanced  security  is in public intere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03280" indent="-200880">
              <a:lnSpc>
                <a:spcPct val="90000"/>
              </a:lnSpc>
              <a:spcBef>
                <a:spcPts val="601"/>
              </a:spcBef>
              <a:buClr>
                <a:srgbClr val="10cf9b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onstantia"/>
              </a:rPr>
              <a:t>    </a:t>
            </a:r>
            <a:r>
              <a:rPr b="1" i="1" lang="en-US" sz="2400" spc="-1" strike="noStrike">
                <a:solidFill>
                  <a:srgbClr val="262626"/>
                </a:solidFill>
                <a:latin typeface="Constantia"/>
              </a:rPr>
              <a:t>Facial recognition is a form ofcomputer vision that uses faces to attempt to identify a person or verify a person’s claimed identity.  Regardless of specific method used.</a:t>
            </a:r>
            <a:r>
              <a:rPr b="0" i="1" lang="en-US" sz="2400" spc="-1" strike="noStrike">
                <a:solidFill>
                  <a:srgbClr val="262626"/>
                </a:solidFill>
                <a:latin typeface="Constanti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50280" indent="-2451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Constantia"/>
              </a:rPr>
              <a:t>  </a:t>
            </a:r>
            <a:r>
              <a:rPr b="0" i="1" lang="en-US" sz="2600" spc="-1" strike="noStrike">
                <a:solidFill>
                  <a:srgbClr val="262626"/>
                </a:solidFill>
                <a:latin typeface="Constantia"/>
              </a:rPr>
              <a:t>To identify any person we generally look at face and eyes in particular seem to tell a story how the person feel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50280" indent="-24516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Constantia"/>
              </a:rPr>
              <a:t>Face recognition is a kind of electronic unmasking.</a:t>
            </a:r>
            <a:r>
              <a:rPr b="0" lang="en-US" sz="3100" spc="-1" strike="noStrike">
                <a:solidFill>
                  <a:srgbClr val="262626"/>
                </a:solidFill>
                <a:latin typeface="Constanti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2" descr=""/>
          <p:cNvPicPr/>
          <p:nvPr/>
        </p:nvPicPr>
        <p:blipFill>
          <a:blip r:embed="rId1"/>
          <a:stretch/>
        </p:blipFill>
        <p:spPr>
          <a:xfrm>
            <a:off x="225360" y="109440"/>
            <a:ext cx="8925120" cy="2017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2666880" y="2362320"/>
            <a:ext cx="46483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buClr>
                <a:srgbClr val="ffffff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 </a:t>
            </a:r>
            <a:r>
              <a:rPr b="1" lang="en-US" sz="2600" spc="-1" strike="noStrike" u="sng">
                <a:solidFill>
                  <a:srgbClr val="262626"/>
                </a:solidFill>
                <a:uFillTx/>
                <a:latin typeface="Constantia"/>
              </a:rPr>
              <a:t>Late 1980s</a:t>
            </a: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: Researc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ffffff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 </a:t>
            </a:r>
            <a:r>
              <a:rPr b="1" lang="en-US" sz="2600" spc="-1" strike="noStrike" u="sng">
                <a:solidFill>
                  <a:srgbClr val="262626"/>
                </a:solidFill>
                <a:uFillTx/>
                <a:latin typeface="Constantia"/>
              </a:rPr>
              <a:t>Mid 1990s</a:t>
            </a: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: Commercializ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ffffff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 </a:t>
            </a:r>
            <a:r>
              <a:rPr b="1" lang="en-US" sz="2600" spc="-1" strike="noStrike" u="sng">
                <a:solidFill>
                  <a:srgbClr val="262626"/>
                </a:solidFill>
                <a:uFillTx/>
                <a:latin typeface="Constantia"/>
              </a:rPr>
              <a:t>Curr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- Authentic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- I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- Law Enforce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Subtitle 2"/>
          <p:cNvSpPr/>
          <p:nvPr/>
        </p:nvSpPr>
        <p:spPr>
          <a:xfrm>
            <a:off x="762120" y="5715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www.smarteach.blogspo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000000"/>
                </a:solidFill>
                <a:uFillTx/>
                <a:latin typeface="Calibri"/>
              </a:rPr>
              <a:t>WHAT IS BIOMETRICS?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It is a unique measurable characteristics of a human be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Used to automatically recognize an individual’s identit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Two types 1.physiological &amp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                   </a:t>
            </a: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2. behavioral characteristic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onstantia"/>
              </a:rPr>
              <a:t>A “biometric system” refers to integrated hardware and software used to conduct biometric identific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Exciting Biometric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Times New Roman"/>
              </a:rPr>
              <a:t>Fingerprint Recogn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Times New Roman"/>
              </a:rPr>
              <a:t>Voice Recogn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Times New Roman"/>
              </a:rPr>
              <a:t>Signature Recogn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Times New Roman"/>
              </a:rPr>
              <a:t>Face Recogn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Times New Roman"/>
              </a:rPr>
              <a:t>Palm Recogn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Subtitle 2"/>
          <p:cNvSpPr/>
          <p:nvPr/>
        </p:nvSpPr>
        <p:spPr>
          <a:xfrm>
            <a:off x="762120" y="5715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www.smarteach.blogspo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Y WE CHOOSE FACE      RECOGNITION OVER OTHER BIOMETRIC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76160"/>
            <a:ext cx="82296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It requires no physical interaction on behalf of us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It is accurate and allows for high enrolment and verifi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Not require an expert to interpret the comparison resul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Can use your existing infrastruc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Passive identifica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3"/>
          <p:cNvSpPr/>
          <p:nvPr/>
        </p:nvSpPr>
        <p:spPr>
          <a:xfrm>
            <a:off x="2111400" y="1523880"/>
            <a:ext cx="2181240" cy="5335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 fac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3025800" y="2057400"/>
            <a:ext cx="212760" cy="380880"/>
          </a:xfrm>
          <a:prstGeom prst="downArrow">
            <a:avLst>
              <a:gd name="adj1" fmla="val 50000"/>
              <a:gd name="adj2" fmla="val 41323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2251080" y="2438280"/>
            <a:ext cx="1830240" cy="5335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e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955960" y="2971800"/>
            <a:ext cx="280800" cy="380880"/>
          </a:xfrm>
          <a:prstGeom prst="downArrow">
            <a:avLst>
              <a:gd name="adj1" fmla="val 50000"/>
              <a:gd name="adj2" fmla="val 31310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2322360" y="3352680"/>
            <a:ext cx="1758960" cy="7621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e fe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025800" y="4114800"/>
            <a:ext cx="212760" cy="457200"/>
          </a:xfrm>
          <a:prstGeom prst="downArrow">
            <a:avLst>
              <a:gd name="adj1" fmla="val 50000"/>
              <a:gd name="adj2" fmla="val 4960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2251080" y="4572000"/>
            <a:ext cx="2041560" cy="6094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 M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0"/>
          <p:cNvSpPr/>
          <p:nvPr/>
        </p:nvSpPr>
        <p:spPr>
          <a:xfrm>
            <a:off x="5487840" y="5257800"/>
            <a:ext cx="281160" cy="380880"/>
          </a:xfrm>
          <a:prstGeom prst="downArrow">
            <a:avLst>
              <a:gd name="adj1" fmla="val 50000"/>
              <a:gd name="adj2" fmla="val 31270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1"/>
          <p:cNvSpPr/>
          <p:nvPr/>
        </p:nvSpPr>
        <p:spPr>
          <a:xfrm>
            <a:off x="4643280" y="4572000"/>
            <a:ext cx="1900440" cy="6858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sion m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4714920" y="5638680"/>
            <a:ext cx="2039760" cy="6098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914400" y="189000"/>
            <a:ext cx="73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ic steps for face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2"/>
          <p:cNvGraphicFramePr/>
          <p:nvPr/>
        </p:nvGraphicFramePr>
        <p:xfrm>
          <a:off x="1336680" y="1676520"/>
          <a:ext cx="42228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1676520"/>
                    <a:ext cx="422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Line 16"/>
          <p:cNvSpPr/>
          <p:nvPr/>
        </p:nvSpPr>
        <p:spPr>
          <a:xfrm>
            <a:off x="1758960" y="18288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7"/>
          <p:cNvSpPr/>
          <p:nvPr/>
        </p:nvSpPr>
        <p:spPr>
          <a:xfrm>
            <a:off x="4292640" y="4800600"/>
            <a:ext cx="350640" cy="228600"/>
          </a:xfrm>
          <a:prstGeom prst="rightArrow">
            <a:avLst>
              <a:gd name="adj1" fmla="val 50000"/>
              <a:gd name="adj2" fmla="val 41528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20"/>
          <p:cNvSpPr/>
          <p:nvPr/>
        </p:nvSpPr>
        <p:spPr>
          <a:xfrm>
            <a:off x="210960" y="3962520"/>
            <a:ext cx="1406880" cy="3045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1"/>
          <p:cNvSpPr/>
          <p:nvPr/>
        </p:nvSpPr>
        <p:spPr>
          <a:xfrm>
            <a:off x="21096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2"/>
          <p:cNvSpPr/>
          <p:nvPr/>
        </p:nvSpPr>
        <p:spPr>
          <a:xfrm>
            <a:off x="161784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422280" y="4495680"/>
            <a:ext cx="10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25"/>
          <p:cNvSpPr/>
          <p:nvPr/>
        </p:nvSpPr>
        <p:spPr>
          <a:xfrm>
            <a:off x="210960" y="5181480"/>
            <a:ext cx="1406880" cy="3049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6"/>
          <p:cNvSpPr/>
          <p:nvPr/>
        </p:nvSpPr>
        <p:spPr>
          <a:xfrm>
            <a:off x="1617840" y="4724280"/>
            <a:ext cx="56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7"/>
          <p:cNvSpPr/>
          <p:nvPr/>
        </p:nvSpPr>
        <p:spPr>
          <a:xfrm flipH="1">
            <a:off x="1617480" y="4952880"/>
            <a:ext cx="56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8"/>
          <p:cNvSpPr/>
          <p:nvPr/>
        </p:nvSpPr>
        <p:spPr>
          <a:xfrm>
            <a:off x="141120" y="3048120"/>
            <a:ext cx="75279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9"/>
          <p:cNvSpPr/>
          <p:nvPr/>
        </p:nvSpPr>
        <p:spPr>
          <a:xfrm>
            <a:off x="5346720" y="3276720"/>
            <a:ext cx="1619280" cy="642600"/>
          </a:xfrm>
          <a:prstGeom prst="rect">
            <a:avLst/>
          </a:prstGeom>
          <a:solidFill>
            <a:srgbClr val="e2d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33109"/>
                </a:solidFill>
                <a:latin typeface="Arial"/>
              </a:rPr>
              <a:t>Face recog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FACE RECOGNI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Two types of comparison in face recogni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1.Verification- The system compare the given individual with who that individual says they a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2.Identification-The system compares a given individual to all the other individuals in the database and gives a ranked list of match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Subtitle 2"/>
          <p:cNvSpPr/>
          <p:nvPr/>
        </p:nvSpPr>
        <p:spPr>
          <a:xfrm>
            <a:off x="762120" y="5715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www.smarteach.blogspo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14:47:42Z</dcterms:created>
  <dc:creator>shijin</dc:creator>
  <dc:description/>
  <dc:language>en-US</dc:language>
  <cp:lastModifiedBy>Babai</cp:lastModifiedBy>
  <dcterms:modified xsi:type="dcterms:W3CDTF">2013-07-19T17:52:59Z</dcterms:modified>
  <cp:revision>92</cp:revision>
  <dc:subject/>
  <dc:title>FACE RECOGNITION TECHNOLOGY</dc:title>
</cp:coreProperties>
</file>