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Xot%20xa%20-%20Vo%20Thuong%20guita.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42F-91B5-417B-820E-9C12C31F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394-4731-4D66-AC88-85441E6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E5A4-E780-4B76-BB1A-B5ACE98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0D84B-2DA9-42D2-A0AC-7A019F2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7D2BF-3E3A-44A9-8509-EFDFE249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F4E78-3B9C-4F70-96A9-3D68DBB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FD1A5-AA8D-4556-AB58-9B01A54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56350-3496-4813-9DA6-1D3D51F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ABEDE-6CAA-4F34-9853-9CDA349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A4715-E285-4492-A0D3-4F92A247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C83BE-8A1F-4167-92E8-5F703053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5077-964F-46A9-8A67-A1E29AC1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4FF-6DB3-4FDB-AFF3-FC49B843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4DE9F-D713-48C8-B32E-5867A208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EF5CB-A22B-4559-ADD7-143F80F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C2B8F-C475-40B0-B965-74C2E13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E15F4-9517-4818-9533-F540AAB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18FD7-E672-43CF-B9E7-B88D019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3D090-05B0-403B-B88D-FA32A0E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F4A6B-85AA-4E0E-A3E4-3835F73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F0B61-2C7C-48D5-88E2-6362304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D73BB-C235-4FC9-A762-6FAF440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3F2E9-1F90-41FA-9073-66C6ADE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C1D-91DB-4E84-9330-19591048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D06F2-4C01-4A2D-A4A1-ED6930BA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1FD9-0C45-47FD-A145-40FD8063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0478-7C67-4424-A979-B778BB55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5541-855F-490B-9A97-5FCDBE9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0C4C5-72BC-48B1-AB78-DDC7ECE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69340-F4CD-4A53-9CC5-E22C14E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4869-E150-4264-A0BB-A183A6F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35B69-EA31-4888-A9DD-5E4ED4A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19FA-CC1D-4202-9605-BE3FE8A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C9426-93FF-4752-AF15-26E745E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75B-80E0-46F1-9339-6D0C56A8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23B8F-BCE7-45B9-AC89-27266A7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514C5-6D38-4990-97D4-FE0B50E5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17DC3-20D2-419B-8E09-FD0981E6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DCCDA-CA56-4D26-AD05-F1D513A6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5E9D5-9649-4084-8A22-6E54B28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1A038-5FAB-4E24-9B10-6ED981A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8741-3300-44A5-8EF4-E0C609D6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83987-9940-45CA-9E74-E8292F1E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975B5-97FB-4717-BCA7-F57096C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CB28B-6EC8-4C1B-8788-DE6D8438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68C6-0710-4873-B952-478B5098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01054-4A1C-42CE-9AAC-C2B168D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A4A80-93BA-4B04-AADC-37A3537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A98D7-C97D-4AB9-A7D0-11BD1BF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8EFB2-D3C4-49ED-81BC-D2437023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E09DA-07AB-405A-A955-F7ACEB56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A20E-F56C-4AA3-8C55-4651F469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5962-C5F8-423E-BD38-CDD2CE92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672-F395-4AFF-B42C-04B172AA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6F6-D4FC-4F22-A0AD-E9BA0C9C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88A4-6388-4E0C-90E3-217C08F9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F2E-6901-40EE-AEE0-8F29A3F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3795-731B-4239-BCC1-55186D7F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9F5E-AA84-484C-A7C5-915220AB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3042-53D9-49B2-8218-CDEAB53A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BD2-49A8-4DC0-81E7-23082346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B9F1-B1A1-46AE-ACE1-DFE3D117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53B7-05A3-43DF-9EA8-ABD968F3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5514-4483-49A7-BC01-4A2332E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A08E-6BDF-4ECE-A71D-0FBECB7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2A15-0CB3-463D-8B3F-80940F65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56F0-5967-416D-A179-2CFCFEF6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436-FB2B-4C7E-BDCB-42A2038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A01A-DBE9-4E68-9DE1-F6F67788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2DE7-04E1-4769-AD10-1780B00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7036-FA3A-4ADA-BD81-147AD89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63A7-0783-4157-835B-FCD0E07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A68A-8FA0-456C-BFEE-813B9ADF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9667-6EF3-41A6-93A4-AD681578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EB7E-F962-4E81-A6F9-E3CAE662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15F4-2F21-472E-BD18-FF852F98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7F53-045A-47F4-B862-769EF4B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8370-8C05-443C-BED7-8C1FA269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CBD-6DCD-4FAB-A149-C8F5B5A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3B88-3BC8-4152-87E9-D591616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1E32-1B80-4C63-B2FF-5FFA0E4E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6644-30CF-46B2-900F-B6CBE3B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7A5F-ABC1-402C-AEED-C270788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714B-B7A6-4472-A57E-FB9DDE9B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20EF-7055-4826-8954-8AEA21D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2CB2-9B29-43A6-8042-25A8232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BB7F8-E6DC-4E1B-8D0B-DB104396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28E2-C50A-4E59-A396-6465E94F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5145-DE70-4182-A02F-E3B2885E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161-7023-4F21-A3FB-33CCE09F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5C2C-A8C9-4BD1-96F5-785F0D12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0BF5-11DF-4327-93C4-1820B933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76DB-FDA1-4DC7-86AE-142480E2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E4DB-FAD0-4B30-BA5B-16CC12A2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575E-BFA0-4978-9042-479C8AF0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D399-754D-44CB-AB94-04F1231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B59D-55A0-4F76-93E7-EEEC0BB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6F04-CBF3-4573-AB2A-507DFEE9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796E-CFF4-4CBE-9BFC-C547EFB3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8AB07-DCF2-4523-B40B-481F4778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827-1437-4319-BF45-BA0F6FF3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FC5C-3170-4795-9899-82B245BE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693FC-FFA3-42A9-A709-FB2E8777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0F78-D8B7-404E-9C70-E7776EC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2CFB-AC2D-446D-A1D0-D2293CB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121E-A632-4218-84F2-6A73521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23B0-38F5-4177-94BA-7F192F6F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77CC4-8276-454E-806C-1A9CBBC5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A0FAC-3FE6-4ADD-9365-D2D82AC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BA65-5C0F-4166-ABC1-8A00A9D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5BB6-0E09-40CF-9BE4-FC957A1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455-876C-4141-B047-46DE197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E6A6-927C-406C-A157-D93EA7F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AA3B1-45C9-4A09-8116-CE29C31D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D691-B5EA-4DAE-8D38-8E1411DE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37C18-1251-4C59-9220-7410CBB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85C1-52B6-48D0-9FFC-8F7F6CB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A94CC-C7DE-41FD-949C-2EE2C78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6364-9631-455F-BFFD-4A0E0A7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FF96-50D0-4D59-84EA-34684E4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4289-58A9-404D-A22A-D0DB652A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2381-8F74-4584-8D5F-C6DACEF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C65-3A8A-423C-BC87-B7A2BBC2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E760-1226-443E-8634-A86EA08E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94FA-F2F8-4347-BF66-AB55E5C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179E9-8787-4D44-83E1-44A0C633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E140-A399-4976-A028-52A1A5D3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FFFF0-EEB1-44A0-8A2E-6461148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C8CE-DDC2-42DF-8336-3EC35958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A0D6-1918-48F4-897A-49651DB9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2B77-8590-4860-B0A7-CC78EB4A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8339D-BAD6-4894-ADF4-C1F4B96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17F2A-D56D-4C91-BBFC-CEA7DDE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A89-A22B-4A4E-A537-78A8CE3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B2582-30FD-4967-B632-6BD2811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F146-6E22-4EC8-AEBE-6A0515C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3A59-BDC6-401D-BD7E-3741C28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08C7-D2DC-4394-9B6F-9941E5B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A221-C964-4D06-B21F-3775BFB0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9E1E-0FD0-4A7D-B126-EF49C6C0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480EA-E534-42C8-93F7-F700BCA0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9233E-0125-4B63-BBCC-C49FAB11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11A02-D879-46DF-8F8F-A2C6FDE4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D7993-D936-41A0-B66E-F891598E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9BB3-D21A-46A3-8567-4EDB257C9C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EF8B-ABD7-4EC2-914B-85A40E6A9D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EF3B-3928-43D7-A864-8EC053A707E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557A-D209-4CE4-8897-97924CD8016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D0B-F85D-4165-A89F-72369513EF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D066-C91F-4A39-9967-3F608849D5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75F2-646C-4DA8-9787-AB2B5CA3D4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B2D8-1C8E-41B1-8D20-53D792B8F9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06BF-F4E6-46AA-ABD6-3F7C4C44F9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345-CAEF-4DAB-9921-1A1495B726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5315-2CD6-4502-A7C4-B5F58A4BB7E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A836-66FE-4E14-BA8F-2F73D8F259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ot%20xa%20-%20Vo%20Thuong%20guita.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" descr="1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495" name="WordArt 7"/>
          <p:cNvSpPr txBox="1"/>
          <p:nvPr/>
        </p:nvSpPr>
        <p:spPr>
          <a:xfrm>
            <a:off x="2133720" y="22860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ffff00"/>
                  </a:outerShdw>
                </a:effectLst>
                <a:latin typeface="Times New Roman"/>
              </a:rPr>
              <a:t>Tình Sử HUYỀN TRÂN CÔNG CHÚA</a:t>
            </a:r>
            <a:endParaRPr b="1" lang="en-US" sz="40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53966" dir="27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8"/>
          <p:cNvSpPr/>
          <p:nvPr/>
        </p:nvSpPr>
        <p:spPr>
          <a:xfrm>
            <a:off x="228600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521" name="Picture 33" descr="den%20huyen%20tran"/>
          <p:cNvPicPr/>
          <p:nvPr/>
        </p:nvPicPr>
        <p:blipFill>
          <a:blip r:embed="rId1"/>
          <a:stretch/>
        </p:blipFill>
        <p:spPr>
          <a:xfrm>
            <a:off x="0" y="0"/>
            <a:ext cx="9601200" cy="6881760"/>
          </a:xfrm>
          <a:prstGeom prst="rect">
            <a:avLst/>
          </a:prstGeom>
          <a:ln w="0">
            <a:noFill/>
          </a:ln>
        </p:spPr>
      </p:pic>
      <p:sp>
        <p:nvSpPr>
          <p:cNvPr id="522" name="WordArt 34"/>
          <p:cNvSpPr txBox="1"/>
          <p:nvPr/>
        </p:nvSpPr>
        <p:spPr>
          <a:xfrm>
            <a:off x="533520" y="228600"/>
            <a:ext cx="3733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Nghiệp báo kiếp nào phải trả vay</a:t>
            </a:r>
            <a:endParaRPr b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uộc đời huyễn mộng thật bi ai!</a:t>
            </a:r>
            <a:endParaRPr b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Tu hành giới luật tâm an lạc</a:t>
            </a:r>
            <a:endParaRPr b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ung điện nguy nga cũng đổi thay !</a:t>
            </a:r>
            <a:endParaRPr b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7" descr="hues-trung-tam-van-hoa-huyen-tran-cong-chua-8"/>
          <p:cNvPicPr/>
          <p:nvPr/>
        </p:nvPicPr>
        <p:blipFill>
          <a:blip r:embed="rId1"/>
          <a:stretch/>
        </p:blipFill>
        <p:spPr>
          <a:xfrm>
            <a:off x="-685800" y="0"/>
            <a:ext cx="10287000" cy="6862680"/>
          </a:xfrm>
          <a:prstGeom prst="rect">
            <a:avLst/>
          </a:prstGeom>
          <a:ln w="0">
            <a:noFill/>
          </a:ln>
        </p:spPr>
      </p:pic>
      <p:sp>
        <p:nvSpPr>
          <p:cNvPr id="524" name="WordArt 18"/>
          <p:cNvSpPr txBox="1"/>
          <p:nvPr/>
        </p:nvSpPr>
        <p:spPr>
          <a:xfrm>
            <a:off x="5257800" y="685800"/>
            <a:ext cx="3581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hi nhớ công lao mở nước này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Đền thờ xây dựng nhớ ơn hoài. (13)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ất tín vua Trần đành phải chịu! (14)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iên cương mở rộng lắm nhân tài. 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6" descr="Den%20tho%20Huyen%20Tran%203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528" name="WordArt 17"/>
          <p:cNvSpPr txBox="1"/>
          <p:nvPr/>
        </p:nvSpPr>
        <p:spPr>
          <a:xfrm>
            <a:off x="685800" y="3505320"/>
            <a:ext cx="3962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ương dân yêu nước phải hi sinh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 chịu đau thương riêng phận mình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ân ngọc mình vàng càng sáng tỏ!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gàn năm nước Việt mãi quang vinh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9" name="WordArt 18"/>
          <p:cNvSpPr txBox="1"/>
          <p:nvPr/>
        </p:nvSpPr>
        <p:spPr>
          <a:xfrm>
            <a:off x="685800" y="541008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...........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h Lương Trương Minh Sung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ỷ niệm ngày Hiền Mẫu 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i. 13 / 05 / 2012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962280" y="44280"/>
            <a:ext cx="3611160" cy="69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ình Sử</a:t>
            </a:r>
            <a:br>
              <a:rPr sz="1600"/>
            </a:br>
            <a:r>
              <a:rPr b="1" lang="fr-FR" sz="1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UYỀN TRÂN CÔNG CHÚA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uyền Trân công chúa vâng lời cha (1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ên mối tình riêng vì nước nhà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rả hiếu đức vua con kính trọng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" Nước non ngàn dặm " (2) ngậm ngùi xa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ân ngọc mình vàng đổi mấy Châu (3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Vua cha quyết định chịu ơn sâu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 đành vâng lệnh đi Chiêm quốc(4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Xa nước thân yêu ôm nỗi sầu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Xứ người lạc lõng giọt châu sa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ong tục khác nhau chẳng đậm đà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gôn ngữ tâm tình chưa nói hết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răng thanh mờ lệ nhớ vua cha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Ái ân lạnh nhạt chẳng yêu đương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ận gái nợ duyên thật đoạn trường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hớ mãi tình xưa đau khổ lắm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ân đây hồn mãi tận quê hương.(5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iễu yếu đào tơ mãi khóc thầm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ống gượng qua ngày được một năm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ở nhụy khai hoa sinh quí tử (6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ương cha mờ lệ giọt trăng rằm..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oper Black"/>
              </a:rPr>
              <a:t> </a:t>
            </a: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4882680" y="14400"/>
            <a:ext cx="361584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Vua Chiêm (7) đột tử thật bi ai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oàng hậu kinh hoàng nổi khổ dài..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ải chết hỏa thiêu theo đúng luật!(8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Vua Trần (9) hạ lệnh cứu nàng ngay...(10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ênh đênh trên biển cả năm trường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ão tố dập vùi giữa đại dương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Về xứ (11) nàng tu theo Phật pháp (12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ố quên tình sử mãi còn vương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ghiệp báo kiếp nào phải trả vay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uộc đời huyễn mộng thật bi ai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u hành giới luật tâm an lạc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ung điện nguy nga cũng đổi thay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hi nhớ công lao mở nước này 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Đền thờ xây dựng nhớ ơn hoài.(13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ất tín vua Trần đành phải chịu!(14)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ên cương mở rộng lắm nhân tài.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ương dân yêu nước phải hi sinh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am chịu đau thương riêng phận mình.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ân ngọc mình vàng càng sáng tỏ!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gàn năm nước Việt mãi quang vinh. 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inh Lương Trương Minh Sung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Kỷ niệm ngày Hiền Mẫu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ali. 13 / 05 / 2012 </a:t>
            </a:r>
            <a:endParaRPr b="1" lang="en-US" sz="16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ransition spd="slow" advTm="4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234360" y="185400"/>
            <a:ext cx="86724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</a:t>
            </a: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) Huyền Trân Công Chúa là con vua Trần Nhân Tông - em gái vua Trần Anh Tông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2) Tương truyền bài hát theo điệu Nam Bình này do công chúa Huyền Trân sáng tác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3) Châu Ô và Châu Lý tức vùng đất Thừa Thiên và Quảng Trị 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4) Được phong làm Hoàng Hậu của vua Chế Mân xứ Chiêm Thành năm 1306. Nay là vùng đất thuộc tỉnh Phan Rang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5) Xứ Đại Việt 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6) Hoàng tử Chế Đa Đa sinh năm 1306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7) Vua Chiêm Thành là Chế Mân băng hà năm 1307 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8) Hoàng Hậu phải được tuẫn táng theo phong tục Chiêm quốc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9) Vua Trần Anh Tông 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10) Tướng Trần Khắc Chung đi thuyền vào Chiêm quốc ( Thành Đồ Bàn )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để tìm mưu kế cứu công chúa Huyền Trân thoát chết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11) Về đến Kinh đô Thăng Long - Xứ Đại Việt năm 1308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12) Thọ Bồ Tát giới , pháp danh Hương Tràng với sự ấn chứng của quốc sư Bảo Phát năm 1309  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o di mệnh của Thái Thượng Hoàng Trần Nhân Tông.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13) Bà mất năm 1340 được lập đền thờ cạnh chùa Nộm Sơn ở Nam Định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14) Đời sau có người đã phê phán vua Trần Anh Tông không tôn trọng chữ Tín ( Bất tín ). 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àng năm dân chúng có tổ chức ngày Lễ Hội Đền Huyền Trân trên núi Ngũ Phong ở Huế.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hi chú :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ật ra, Huyền Trân (</a:t>
            </a: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玄珍</a:t>
            </a: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, sinh năm 1287, con vua Trần Nhân Tông và là em gái vua Trần Anh Tông.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ăm 1306, Huyền Trân được gả cho vua Chiêm Thành (Champa) là Chế Mân (tiếng Phạn: Jaya Sinhavarman III)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để đổi lấy hai châu Ô, Lý (từ đèo Hải Vân, Thừa Thiên đến phía bắc Quảng Trị ngày nay).</a:t>
            </a:r>
            <a:br>
              <a:rPr sz="1400"/>
            </a:b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ào năm 1293, vua Trần Nhân Tông thoái vị, trở thành Thái thượng Hoàng, lên tu ở núi Yên Tử,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ập nên trường phái Thiền Trúc Lâm,nhường ngôi cho Trần Anh Tông.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ăm 1301, Thái thượng Hoàng nhận lời mời, du ngoạn Chiêm Thành, được vua Chiêm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à Chế Mân tiếp đãi nồng hậu, có ở lại trong cung điện Chiêm Thành gần 9 tháng. Khi ra về,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rần Nhân Tông có hứa gả con gái là Huyền Trân cho Chế Mân, mặc dù khi đó Chế Mân đã có chính thất là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oàng hậu Tapasi, người Java (Nam Dương). Sau đó nhiều lần Chế Mân sai sứ sang hỏi về việc hôn lễ,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hưng triều thần nhà Trần phản đối, chỉ có Văn Túc Vương Đạo Tái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à Nhập nội hành khiển Trần Khắc Chung chủ trương tán thành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vì thâm ý muốn mở mang bờ cõi về phía Nam và tránh cảnh chinh chiến cho Dân)..</a:t>
            </a:r>
            <a:r>
              <a:rPr b="1" lang="fr-FR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14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ransition spd="slow" advTm="4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0"/>
          <p:cNvSpPr/>
          <p:nvPr/>
        </p:nvSpPr>
        <p:spPr>
          <a:xfrm>
            <a:off x="2133720" y="6858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538" name="Picture 20" descr="trang%204%20%282%29"/>
          <p:cNvPicPr/>
          <p:nvPr/>
        </p:nvPicPr>
        <p:blipFill>
          <a:blip r:embed="rId1"/>
          <a:stretch/>
        </p:blipFill>
        <p:spPr>
          <a:xfrm>
            <a:off x="0" y="0"/>
            <a:ext cx="9144000" cy="7356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2" descr="1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540" name="WordArt 23"/>
          <p:cNvSpPr txBox="1"/>
          <p:nvPr/>
        </p:nvSpPr>
        <p:spPr>
          <a:xfrm>
            <a:off x="5867280" y="4876920"/>
            <a:ext cx="2895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ơ : Minh Lương Trương Minh Sung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Kỷ niệm ngày Hiền Mẫu 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li. 13 / 05 / 2012 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òa tấu Guitar Vô Thường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ình ảnh : Internet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PS : BP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1" name="WordArt 25"/>
          <p:cNvSpPr txBox="1"/>
          <p:nvPr/>
        </p:nvSpPr>
        <p:spPr>
          <a:xfrm>
            <a:off x="1600200" y="53352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Tình Sử  HUYỀN  TRÂN  CÔNG   CHÚ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slow" advTm="17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2" descr="45"/>
          <p:cNvPicPr/>
          <p:nvPr/>
        </p:nvPicPr>
        <p:blipFill>
          <a:blip r:embed="rId1"/>
          <a:stretch/>
        </p:blipFill>
        <p:spPr>
          <a:xfrm>
            <a:off x="-380880" y="0"/>
            <a:ext cx="9829800" cy="6985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6"/>
          <p:cNvSpPr txBox="1"/>
          <p:nvPr/>
        </p:nvSpPr>
        <p:spPr>
          <a:xfrm>
            <a:off x="380880" y="22860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ffff00"/>
                  </a:outerShdw>
                </a:effectLst>
                <a:latin typeface="Times New Roman"/>
              </a:rPr>
              <a:t>Tình Sử HUYỀN TRÂN CÔNG CHÚA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53966" dir="27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ffff00"/>
                  </a:outerShdw>
                </a:effectLst>
                <a:latin typeface="Times New Roman"/>
              </a:rPr>
              <a:t>Thơ : ML-TMS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53966" dir="27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1" name="WordArt 7"/>
          <p:cNvSpPr txBox="1"/>
          <p:nvPr/>
        </p:nvSpPr>
        <p:spPr>
          <a:xfrm>
            <a:off x="609480" y="4648320"/>
            <a:ext cx="37339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uyền Trân công chúa vâng lời cha (1)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ên mối tình riêng vì nước nhà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ả hiếu đức vua con kính trọng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Nước non ngàn dặm " (2) ngậm ngùi xa !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1308"/>
          <p:cNvPicPr/>
          <p:nvPr/>
        </p:nvPicPr>
        <p:blipFill>
          <a:blip r:embed="rId1"/>
          <a:stretch/>
        </p:blipFill>
        <p:spPr>
          <a:xfrm>
            <a:off x="-457200" y="-103320"/>
            <a:ext cx="10363320" cy="6996240"/>
          </a:xfrm>
          <a:prstGeom prst="rect">
            <a:avLst/>
          </a:prstGeom>
          <a:ln w="0">
            <a:noFill/>
          </a:ln>
        </p:spPr>
      </p:pic>
      <p:sp>
        <p:nvSpPr>
          <p:cNvPr id="505" name="WordArt 6"/>
          <p:cNvSpPr txBox="1"/>
          <p:nvPr/>
        </p:nvSpPr>
        <p:spPr>
          <a:xfrm>
            <a:off x="457200" y="45720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ân ngọc mình vàng đổi mấy Châu (3)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ua cha quyết định chịu ơn sâu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 đành vâng lệnh đi Chiêm quốc (4)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a nước thân yêu ôm nỗi sầu !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IMG_8590_1_2Enhancer"/>
          <p:cNvPicPr/>
          <p:nvPr/>
        </p:nvPicPr>
        <p:blipFill>
          <a:blip r:embed="rId1"/>
          <a:stretch/>
        </p:blipFill>
        <p:spPr>
          <a:xfrm>
            <a:off x="0" y="0"/>
            <a:ext cx="10287000" cy="6872400"/>
          </a:xfrm>
          <a:prstGeom prst="rect">
            <a:avLst/>
          </a:prstGeom>
          <a:ln w="0">
            <a:noFill/>
          </a:ln>
        </p:spPr>
      </p:pic>
      <p:sp>
        <p:nvSpPr>
          <p:cNvPr id="509" name="WordArt 6"/>
          <p:cNvSpPr txBox="1"/>
          <p:nvPr/>
        </p:nvSpPr>
        <p:spPr>
          <a:xfrm>
            <a:off x="5105520" y="457200"/>
            <a:ext cx="3733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Xứ người lạc lõng giọt châu sa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ng tục khác nhau chẳng đậm đà!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gôn ngữ tâm tình chưa nói hết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ăng thanh mờ lệ nhớ vua cha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40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6"/>
          <p:cNvSpPr txBox="1"/>
          <p:nvPr/>
        </p:nvSpPr>
        <p:spPr>
          <a:xfrm>
            <a:off x="4876920" y="609480"/>
            <a:ext cx="3733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Ái ân lạnh nhạt chẳng yêu đươ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Phận gái nợ duyên thật đoạn trường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Nhớ mãi tình xưa đau khổ lắm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Thân đây hồn mãi tận quê hương. (5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8" descr="76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515" name="WordArt 29"/>
          <p:cNvSpPr txBox="1"/>
          <p:nvPr/>
        </p:nvSpPr>
        <p:spPr>
          <a:xfrm>
            <a:off x="457200" y="4648320"/>
            <a:ext cx="3809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Liễu yếu đào tơ mãi khóc thầm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Sống gượng qua ngày được một năm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Nở nhụy khai hoa sinh quí tử (6)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Thương cha mờ lệ giọt trăng rằm..!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0" descr="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WordArt 21"/>
          <p:cNvSpPr txBox="1"/>
          <p:nvPr/>
        </p:nvSpPr>
        <p:spPr>
          <a:xfrm>
            <a:off x="533520" y="4648320"/>
            <a:ext cx="3733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Vua Chiêm (7) đột tử thật bi ai</a:t>
            </a:r>
            <a:endParaRPr b="1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Hoàng hậu kinh hoàng nổi khổ dài...</a:t>
            </a:r>
            <a:endParaRPr b="1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Phải chết hỏa thiêu theo đúng luật! (8)</a:t>
            </a:r>
            <a:endParaRPr b="1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Vua Trần (9) hạ lệnh cứu nàng ngay...(10)</a:t>
            </a:r>
            <a:endParaRPr b="1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1" descr="2010319123237chualinhung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89680"/>
          </a:xfrm>
          <a:prstGeom prst="rect">
            <a:avLst/>
          </a:prstGeom>
          <a:ln w="0">
            <a:noFill/>
          </a:ln>
        </p:spPr>
      </p:pic>
      <p:sp>
        <p:nvSpPr>
          <p:cNvPr id="519" name="WordArt 42"/>
          <p:cNvSpPr txBox="1"/>
          <p:nvPr/>
        </p:nvSpPr>
        <p:spPr>
          <a:xfrm>
            <a:off x="5029200" y="380880"/>
            <a:ext cx="3657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Lênh đênh trên biển cả năm trường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Bão tố dập vùi giữa đại dương.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Về xứ (11) nàng tu theo Phật pháp (12)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Cố quên tình sử mãi còn vương !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2:45:51Z</dcterms:created>
  <dc:creator>ghkg</dc:creator>
  <dc:description/>
  <dc:language>en-US</dc:language>
  <cp:lastModifiedBy>ghkg</cp:lastModifiedBy>
  <dcterms:modified xsi:type="dcterms:W3CDTF">2012-10-04T02:47:52Z</dcterms:modified>
  <cp:revision>1</cp:revision>
  <dc:subject/>
  <dc:title>Slide 1</dc:title>
</cp:coreProperties>
</file>