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83A3-66D7-4013-BAA8-E068D8D04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8B65-3A83-4ECD-B810-F67564DCB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BDC0-7FF6-41EC-AF23-F25BB5FEF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5522-A4C4-4C63-8516-3132F0B3B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0D4A-5A84-41AD-B193-857DF1C41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C525-15AA-440D-A9D3-F8F9DADA6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537F-0760-47F7-A1B6-A30CD1870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3BB3-578C-436F-B92F-F3E337125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78E1-21CC-4AAC-AB33-C082F35E5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34C4-69AA-4F20-89EE-04A31D0A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4182-57DE-452C-9888-22C1C0AB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DE8A-AEAE-486E-BF98-020B4562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20275-4F61-41C6-A2D8-B1C78FC15DEE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4.xml"/><Relationship Id="rId3" Type="http://schemas.openxmlformats.org/officeDocument/2006/relationships/image" Target="../media/image7.jpeg"/><Relationship Id="rId4" Type="http://schemas.openxmlformats.org/officeDocument/2006/relationships/slide" Target="slide7.xml"/><Relationship Id="rId5" Type="http://schemas.openxmlformats.org/officeDocument/2006/relationships/image" Target="../media/image7.jpeg"/><Relationship Id="rId6" Type="http://schemas.openxmlformats.org/officeDocument/2006/relationships/slide" Target="slide8.xml"/><Relationship Id="rId7" Type="http://schemas.openxmlformats.org/officeDocument/2006/relationships/image" Target="../media/image8.jpeg"/><Relationship Id="rId8" Type="http://schemas.openxmlformats.org/officeDocument/2006/relationships/hyperlink" Target="file:///../&#1601;&#1607;&#1585;&#1587;%20&#1575;&#1604;&#1578;&#1585;&#1575;&#1606;&#1610;&#1605;.pps" TargetMode="External"/><Relationship Id="rId9" Type="http://schemas.openxmlformats.org/officeDocument/2006/relationships/image" Target="../media/image8.jpeg"/><Relationship Id="rId10" Type="http://schemas.openxmlformats.org/officeDocument/2006/relationships/slide" Target="slide1.xml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ساكن فى ستر العل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403280" y="1341360"/>
            <a:ext cx="6337440" cy="3994920"/>
          </a:xfrm>
          <a:prstGeom prst="rect">
            <a:avLst/>
          </a:prstGeom>
          <a:noFill/>
          <a:ln w="0">
            <a:noFill/>
          </a:ln>
          <a:effectLst>
            <a:outerShdw dist="64600" dir="472516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6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الساكن فى ستر العلى فى ظل القدير يبيت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36720" y="3527280"/>
            <a:ext cx="5256360" cy="3019680"/>
          </a:xfrm>
          <a:prstGeom prst="rect">
            <a:avLst/>
          </a:prstGeom>
          <a:noFill/>
          <a:ln w="0">
            <a:noFill/>
          </a:ln>
          <a:effectLst>
            <a:outerShdw dist="64600" dir="472516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6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أقول للرب ملجأى الهى اتكلت علية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70" name="">
            <a:hlinkClick r:id="rId2" action="ppaction://hlinksldjump"/>
          </p:cNvPr>
          <p:cNvSpPr/>
          <p:nvPr/>
        </p:nvSpPr>
        <p:spPr>
          <a:xfrm>
            <a:off x="5292720" y="1413000"/>
            <a:ext cx="3816360" cy="707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ar-EG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لانه يخبئن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4" action="ppaction://hlinksldjump"/>
          </p:cNvPr>
          <p:cNvSpPr/>
          <p:nvPr/>
        </p:nvSpPr>
        <p:spPr>
          <a:xfrm>
            <a:off x="5292720" y="2433600"/>
            <a:ext cx="3816360" cy="7081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ar-EG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لانه تعل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6" action="ppaction://hlinksldjump"/>
          </p:cNvPr>
          <p:cNvSpPr/>
          <p:nvPr/>
        </p:nvSpPr>
        <p:spPr>
          <a:xfrm>
            <a:off x="108000" y="1281240"/>
            <a:ext cx="4176720" cy="7077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القرار : لا أخاف شراً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2">
            <a:hlinkClick r:id="rId8"/>
          </p:cNvPr>
          <p:cNvSpPr/>
          <p:nvPr/>
        </p:nvSpPr>
        <p:spPr>
          <a:xfrm>
            <a:off x="900000" y="260280"/>
            <a:ext cx="2448000" cy="11912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  <a:effectLst>
            <a:outerShdw dist="28496" dir="92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ff"/>
                </a:solidFill>
                <a:latin typeface="Arial"/>
                <a:cs typeface="Arial"/>
              </a:rPr>
              <a:t>فهرس التراني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10" action="ppaction://hlinksldjump"/>
          </p:cNvPr>
          <p:cNvSpPr/>
          <p:nvPr/>
        </p:nvSpPr>
        <p:spPr>
          <a:xfrm>
            <a:off x="5292720" y="417600"/>
            <a:ext cx="3816360" cy="7077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ar-EG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الساكن فى ست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93600" y="-9360"/>
            <a:ext cx="9273960" cy="6876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84360" y="2060640"/>
            <a:ext cx="7991280" cy="3019680"/>
          </a:xfrm>
          <a:prstGeom prst="rect">
            <a:avLst/>
          </a:prstGeom>
          <a:noFill/>
          <a:ln w="0">
            <a:noFill/>
          </a:ln>
          <a:effectLst>
            <a:outerShdw dist="64600" dir="472516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6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لا أخاف شراً أنت معى عصاك و عكازك يعزياننى 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268280"/>
            <a:ext cx="9504360" cy="4502880"/>
          </a:xfrm>
          <a:prstGeom prst="rect">
            <a:avLst/>
          </a:prstGeom>
          <a:noFill/>
          <a:ln w="0">
            <a:noFill/>
          </a:ln>
          <a:effectLst>
            <a:outerShdw dist="64600" dir="472516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6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لا أخاف شراً                       أنت معى       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6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مسحت بالدهن رأسى               كأسى ريا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450720" y="0"/>
            <a:ext cx="9702720" cy="7245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1700280"/>
            <a:ext cx="8820000" cy="3019680"/>
          </a:xfrm>
          <a:prstGeom prst="rect">
            <a:avLst/>
          </a:prstGeom>
          <a:noFill/>
          <a:ln w="0">
            <a:noFill/>
          </a:ln>
          <a:effectLst>
            <a:outerShdw dist="64600" dir="472516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6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لأنه يخبئنى فى مظلتة               فى يوم الش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4360" y="3716280"/>
            <a:ext cx="8604360" cy="3019680"/>
          </a:xfrm>
          <a:prstGeom prst="rect">
            <a:avLst/>
          </a:prstGeom>
          <a:noFill/>
          <a:ln w="0">
            <a:noFill/>
          </a:ln>
          <a:effectLst>
            <a:outerShdw dist="64600" dir="472516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6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يسترنى بستر خيمتة             على صخرة يرفعنى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65160" y="-9360"/>
            <a:ext cx="9274320" cy="6876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6720" y="1916280"/>
            <a:ext cx="8496360" cy="3019680"/>
          </a:xfrm>
          <a:prstGeom prst="rect">
            <a:avLst/>
          </a:prstGeom>
          <a:noFill/>
          <a:ln w="0">
            <a:noFill/>
          </a:ln>
          <a:effectLst>
            <a:outerShdw dist="64600" dir="472516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6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لا أخاف شراً أنت معى     عصاك و عكازك يعزياننى 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-114480"/>
            <a:ext cx="9144000" cy="69724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39640" y="907920"/>
            <a:ext cx="8929800" cy="4502880"/>
          </a:xfrm>
          <a:prstGeom prst="rect">
            <a:avLst/>
          </a:prstGeom>
          <a:noFill/>
          <a:ln w="0">
            <a:noFill/>
          </a:ln>
          <a:effectLst>
            <a:outerShdw dist="64600" dir="472516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6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لا أخاف شراً                      أنت معى 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6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مسحت بالدهن رأسى                   كأسى ريا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71640" y="1413000"/>
            <a:ext cx="6985080" cy="2044440"/>
          </a:xfrm>
          <a:prstGeom prst="rect">
            <a:avLst/>
          </a:prstGeom>
          <a:noFill/>
          <a:ln w="0">
            <a:noFill/>
          </a:ln>
          <a:effectLst>
            <a:outerShdw dist="64600" dir="472516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6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لأنه تعلق بى              لذا سأنجيه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58920" y="3429000"/>
            <a:ext cx="6337440" cy="3994920"/>
          </a:xfrm>
          <a:prstGeom prst="rect">
            <a:avLst/>
          </a:prstGeom>
          <a:noFill/>
          <a:ln w="0">
            <a:noFill/>
          </a:ln>
          <a:effectLst>
            <a:outerShdw dist="64600" dir="472516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6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يدعونى فأستجيب         معه أنا فى الضيق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273960" cy="6877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24000" y="1916280"/>
            <a:ext cx="8675640" cy="3019680"/>
          </a:xfrm>
          <a:prstGeom prst="rect">
            <a:avLst/>
          </a:prstGeom>
          <a:noFill/>
          <a:ln w="0">
            <a:noFill/>
          </a:ln>
          <a:effectLst>
            <a:outerShdw dist="64600" dir="472516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6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لا أخاف شراً أنت معى             عصاك و عكازك يعزياننى 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-114480"/>
            <a:ext cx="9144000" cy="6972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476360" y="1111320"/>
            <a:ext cx="6408720" cy="6453360"/>
          </a:xfrm>
          <a:prstGeom prst="rect">
            <a:avLst/>
          </a:prstGeom>
          <a:noFill/>
          <a:ln w="0">
            <a:noFill/>
          </a:ln>
          <a:effectLst>
            <a:outerShdw dist="64600" dir="472516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6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لا أخاف شراً               أنت معى                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6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مسحت بالدهن رأسى كأسى ريا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0T20:04:23Z</dcterms:created>
  <dc:creator>www.taranimarabia.org</dc:creator>
  <dc:description/>
  <dc:language>en-US</dc:language>
  <cp:lastModifiedBy>Sp2</cp:lastModifiedBy>
  <dcterms:modified xsi:type="dcterms:W3CDTF">2008-09-01T23:31:28Z</dcterms:modified>
  <cp:revision>25</cp:revision>
  <dc:subject/>
  <dc:title>الساكن في ستر العلي </dc:title>
</cp:coreProperties>
</file>