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406F-725C-4F84-8155-7EBC4F61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2EE2-385E-4E1C-A9C7-4C0BCF3A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CAA7-9046-47AD-BD74-3E868B0B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07D5-D9C5-43A0-B21C-FD4FC4E4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D20A-8F9F-441A-A6DF-E7E6EAA7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433E-D035-45CA-AFB7-CD6FA225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3A49-6FE5-4276-B641-B9A7B560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7CE1-69EB-41A0-8964-0362814C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FBE6-5901-4E8A-AD19-BA6D7E3A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F0EF-2127-40EE-9147-0ACCF390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E6E2-E826-45E1-B2A8-1562F798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DA47-AD52-45D6-A073-B054EC89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1C25-FAFE-4D72-B02E-3A62B3AC17A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image" Target="../media/image7.jpeg"/><Relationship Id="rId4" Type="http://schemas.openxmlformats.org/officeDocument/2006/relationships/slide" Target="slide7.xml"/><Relationship Id="rId5" Type="http://schemas.openxmlformats.org/officeDocument/2006/relationships/image" Target="../media/image7.jpeg"/><Relationship Id="rId6" Type="http://schemas.openxmlformats.org/officeDocument/2006/relationships/slide" Target="slide8.xml"/><Relationship Id="rId7" Type="http://schemas.openxmlformats.org/officeDocument/2006/relationships/image" Target="../media/image8.jpeg"/><Relationship Id="rId8" Type="http://schemas.openxmlformats.org/officeDocument/2006/relationships/hyperlink" Target="file:///../&#1601;&#1607;&#1585;&#1587;%20&#1575;&#1604;&#1578;&#1585;&#1575;&#1606;&#1610;&#1605;.pps" TargetMode="External"/><Relationship Id="rId9" Type="http://schemas.openxmlformats.org/officeDocument/2006/relationships/image" Target="../media/image8.jpeg"/><Relationship Id="rId10" Type="http://schemas.openxmlformats.org/officeDocument/2006/relationships/slide" Target="slide1.xml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اكن فى ستر العل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403280" y="1341360"/>
            <a:ext cx="6337440" cy="399492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الساكن فى ستر العلى فى ظل القدير يبيت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36720" y="3527280"/>
            <a:ext cx="5256360" cy="301968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أقول للرب ملجأى الهى اتكلت علية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لانه يخبئن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4" action="ppaction://hlinksldjump"/>
          </p:cNvPr>
          <p:cNvSpPr/>
          <p:nvPr/>
        </p:nvSpPr>
        <p:spPr>
          <a:xfrm>
            <a:off x="5292720" y="2433600"/>
            <a:ext cx="381636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لانه تعل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6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القرار : لا أخاف شراً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2">
            <a:hlinkClick r:id="rId8"/>
          </p:cNvPr>
          <p:cNvSpPr/>
          <p:nvPr/>
        </p:nvSpPr>
        <p:spPr>
          <a:xfrm>
            <a:off x="900000" y="260280"/>
            <a:ext cx="2448000" cy="1191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0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الساكن فى ست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3600" y="-9360"/>
            <a:ext cx="9273960" cy="6876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4360" y="2060640"/>
            <a:ext cx="7991280" cy="301968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لا أخاف شراً أنت معى عصاك و عكازك يعزياننى 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268280"/>
            <a:ext cx="9504360" cy="450288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لا أخاف شراً                       أنت معى       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مسحت بالدهن رأسى               كأسى ريا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450720" y="0"/>
            <a:ext cx="9702720" cy="7245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700280"/>
            <a:ext cx="8820000" cy="301968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لأنه يخبئنى فى مظلتة               فى يوم الش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360" y="3716280"/>
            <a:ext cx="8604360" cy="301968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يسترنى بستر خيمتة             على صخرة يرفعنى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65160" y="-9360"/>
            <a:ext cx="9274320" cy="6876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6720" y="1916280"/>
            <a:ext cx="8496360" cy="301968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لا أخاف شراً أنت معى     عصاك و عكازك يعزياننى 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1448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9640" y="907920"/>
            <a:ext cx="8929800" cy="450288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لا أخاف شراً                      أنت معى 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مسحت بالدهن رأسى                   كأسى ريا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71640" y="1413000"/>
            <a:ext cx="6985080" cy="204444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لأنه تعلق بى              لذا سأنجيه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3429000"/>
            <a:ext cx="6337440" cy="399492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يدعونى فأستجيب         معه أنا فى الضيق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273960" cy="6877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4000" y="1916280"/>
            <a:ext cx="8675640" cy="301968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لا أخاف شراً أنت معى             عصاك و عكازك يعزياننى 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11448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76360" y="1111320"/>
            <a:ext cx="6408720" cy="645336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لا أخاف شراً               أنت معى                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مسحت بالدهن رأسى كأسى ريا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20:04:23Z</dcterms:created>
  <dc:creator>www.taranimarabia.org</dc:creator>
  <dc:description/>
  <dc:language>en-US</dc:language>
  <cp:lastModifiedBy>Sp2</cp:lastModifiedBy>
  <dcterms:modified xsi:type="dcterms:W3CDTF">2008-09-01T23:31:28Z</dcterms:modified>
  <cp:revision>25</cp:revision>
  <dc:subject/>
  <dc:title>الساكن في ستر العلي </dc:title>
</cp:coreProperties>
</file>