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CBFA-07A8-4F6D-8A26-C0606ED8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799B-26A1-4B2A-A37F-CC4E0249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BA02-FAE2-4504-BF15-6725E355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192-2C54-4A5A-B048-F4ECE933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2B7E-3789-49D0-B733-B677B2E0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D59E-01DD-4042-A1F3-789A4FF0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69F4-BA58-451B-91D1-20B1F3F6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D3EB-C227-4735-8A1D-9D02C075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C490-080F-4260-B231-0CC0F772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9D5C-FE71-4DEE-8BC9-400A9535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31DF-4699-4315-AC04-5680CA01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24E-1807-4E5F-86CD-61C69F19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0A43-702C-4B3A-A9BF-CB43DBA2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D357-10F1-4797-90C2-FED4C0D9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9FF3-08BB-4196-B108-8EF31C52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533D-B3C1-4D14-B400-89D525F6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2129-A957-4FB4-BEA7-F1FCB7E5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AC1A-A59E-4AB0-A527-ACD97186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A4E870-E9D0-4BA2-A378-82BF596E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D1A2BF-A731-43DC-8EE7-A17FDCA3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73D8B0-3D15-430E-9E89-B4B4A81D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4022-B342-413A-AFBC-3876C691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718FF1-4EF8-497B-B44B-D640CBF7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1FC8DE-A938-4EF9-A542-660D19F2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946712-DE00-451E-AC87-E00B5951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302F77-67C6-4DE3-8A0D-E62FC331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14E6C9-B0F1-4FE3-81BF-3F070381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9B9539-50B3-4575-80A6-C9AA8442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DB1D4E-F932-43FF-ABB1-37A9359A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AF1930-E4B8-41E0-BB6D-6759DD9F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E1C33-03B8-492F-92C0-D4093939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A6EDE7-4EC8-4821-BEFD-74438766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4AB-62C8-4FC6-B704-4629D5D7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CE6248-BB56-40BD-8EF0-FDD9A9A6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179C0-678C-4B2F-B071-02EEC392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786F52-6B7C-4FF1-BA01-7C8F60F2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273248-F3E3-4242-8E49-517B6DC5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8F6BE4-7C93-4E8C-B5A5-23E2421F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074994-0AB0-4ADF-B856-DCE52214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ED47E7-E604-48C6-85DB-FDB9CA61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FE2DF7-304D-42A8-AEEA-04CAAC3E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DC8A6F-4627-4D23-B654-18DCEEA2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86DA58-6D51-475B-AAD7-D3EB533F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8DF1-3DB2-4901-8AD1-7F974D11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3EE1E8-1710-4777-B9DF-0EFA3B08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EE6BF8-75E8-4024-B8B6-94F8833D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7564D1-C814-4E5C-AAD8-215C234A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4C9914-1DDD-46A1-B1C9-49B6356F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5B559F-6A8B-4063-B2AC-2C5C2880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A17199-6712-427D-9EDC-1A77B9A1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FCCD78-4904-4FD3-8C14-AB591320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97F7E4-88BA-469E-AA69-99AB9766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C4D786-0604-4A05-AAAB-08C807E0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D3F4DA-E474-4FD2-9890-5A8F78EC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ED27-EEC5-4C53-96D9-68F532FA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A2CBF8-6984-48CB-905F-3FB897CC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79731F-00EE-4E46-B9C0-049B21B1C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280BCB-8DB3-49DE-AF9A-B7D7C3EE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77AD2-91DD-4092-8F7F-A4B6616B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2193A8-AB92-4E5F-9BF5-D36EF9ED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58BEAE-5C45-4CAC-8246-B3C58A51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0A7F84-B0B6-45DD-B88B-662099B5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A626FD-063A-4911-8A7F-0D323AA9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73735C-B750-474D-8F8D-59E11EE7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EED5D9-56EF-44A6-A297-851923A7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7EE2-9C81-4897-BF6E-9DC1B1EC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934299-C976-473E-8851-C755AAE7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1478A9-46CF-4B77-81BC-BE1C62AB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EA08BB-816C-4DE6-BACA-1419340E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AE575C-08EB-4D08-A494-8655257C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305F38-771A-407B-B9EA-D80FF413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9E32-E25A-4F82-A283-576397D8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1A6C-6530-4ECE-BA03-6F0FFC07239C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m n RAJ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852E-4FDF-40EA-A4C4-628EDB6F8020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0462-9695-4256-9C7C-6F6DB0455494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m n RAJ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F4C4-FB7A-4644-8ABA-F1F87AD7DB13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C6B0-F0B3-42C3-90B3-5FBA71493FF0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467120" y="6264360"/>
            <a:ext cx="12956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m n RAJ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1BC3-AA88-45BC-9B83-59A77C5EA60C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m n RAJ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55E2-60BB-4DA6-9E3C-5F66AD35E4F9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A4BD-84C9-43E2-8D33-E1123BC57199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m n RAJ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C718-D230-490B-BDC0-F6CD0E830646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2FA3-8031-44B9-8125-D521BE17BDDE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m n RAJ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7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2D19-4BE6-41C1-BEE6-1337AB53B383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CCCC-9F04-482F-8EDA-6C94BA13CD5B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m n RAJ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612D-584B-4289-850B-B2A10A6EBAF7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Rectangle 3" descr=""/>
          <p:cNvPicPr/>
          <p:nvPr/>
        </p:nvPicPr>
        <p:blipFill>
          <a:blip r:embed="rId1"/>
          <a:stretch/>
        </p:blipFill>
        <p:spPr>
          <a:xfrm>
            <a:off x="55440" y="195120"/>
            <a:ext cx="9069480" cy="66265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5943240" y="5051520"/>
            <a:ext cx="198108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457200" y="60948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Lucida Handwriting"/>
              </a:rPr>
              <a:t>Paragraph Writing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What is a Paragraph?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0880" y="18288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A group of sent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A clear main ide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Supporting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Part of a longer compo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A miniature essay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7467480" y="6264360"/>
            <a:ext cx="129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m n RAJ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7467480" y="6264360"/>
            <a:ext cx="129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m n RAJ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304920" y="461880"/>
            <a:ext cx="853416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entury Gothic"/>
              </a:rPr>
              <a:t>A paragraph is often defined as a group of related sentences in which  one single, main idea is developed. In a typical paragraph, the first sentence declares the main topic of the paragraph and the rest of the sentences develop or support the main idea. A paragraph is most often a part of a longer composition comprising of several paragraphs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A Good Paragraph has . . .</a:t>
            </a:r>
            <a:endParaRPr b="0" lang="en-US" sz="5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600200" y="17524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Un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Sup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Coher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Good Langu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Variety of Struc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Footer Placeholder 3"/>
          <p:cNvSpPr/>
          <p:nvPr/>
        </p:nvSpPr>
        <p:spPr>
          <a:xfrm>
            <a:off x="7467480" y="6264360"/>
            <a:ext cx="129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m n RAJ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Unity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440" y="21333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One main ide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Topic Sent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Other sentences sup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7467480" y="6264360"/>
            <a:ext cx="129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m n RAJ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Coherence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1001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4c7"/>
                </a:solidFill>
                <a:latin typeface="Bookman Old Style"/>
              </a:rPr>
              <a:t>Well organized detai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4c7"/>
                </a:solidFill>
                <a:latin typeface="Bookman Old Style"/>
              </a:rPr>
              <a:t>Chronolog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4c7"/>
                </a:solidFill>
                <a:latin typeface="Bookman Old Style"/>
              </a:rPr>
              <a:t>Impor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4c7"/>
                </a:solidFill>
                <a:latin typeface="Bookman Old Style"/>
              </a:rPr>
              <a:t>log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001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4c7"/>
                </a:solidFill>
                <a:latin typeface="Bookman Old Style"/>
              </a:rPr>
              <a:t>A clear, sensible conn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001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4c7"/>
                </a:solidFill>
                <a:latin typeface="Bookman Old Style"/>
              </a:rPr>
              <a:t>Linkers/conne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Footer Placeholder 3"/>
          <p:cNvSpPr/>
          <p:nvPr/>
        </p:nvSpPr>
        <p:spPr>
          <a:xfrm>
            <a:off x="7467480" y="6264360"/>
            <a:ext cx="129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m n RAJ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Support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905120" y="2133360"/>
            <a:ext cx="5867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Evid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Deta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Expla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ooter Placeholder 3"/>
          <p:cNvSpPr/>
          <p:nvPr/>
        </p:nvSpPr>
        <p:spPr>
          <a:xfrm>
            <a:off x="7467480" y="6264360"/>
            <a:ext cx="129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m n RAJ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Conclus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s the final word(s) that summarise and present the whole points of the paragraph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t is located at the end of the  paragraph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7467480" y="6264360"/>
            <a:ext cx="129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m n RAJ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Good Language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143000" y="2209680"/>
            <a:ext cx="7391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Grammatical Accura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Correct Punct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Apt 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Variety of Struc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Footer Placeholder 3"/>
          <p:cNvSpPr/>
          <p:nvPr/>
        </p:nvSpPr>
        <p:spPr>
          <a:xfrm>
            <a:off x="7467480" y="6264360"/>
            <a:ext cx="129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m n RAJ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06:01:22Z</dcterms:created>
  <dc:creator>RAJU</dc:creator>
  <dc:description/>
  <dc:language>en-US</dc:language>
  <cp:lastModifiedBy>CEX</cp:lastModifiedBy>
  <dcterms:modified xsi:type="dcterms:W3CDTF">2015-03-09T05:17:20Z</dcterms:modified>
  <cp:revision>87</cp:revision>
  <dc:subject/>
  <dc:title>Slide 1</dc:title>
</cp:coreProperties>
</file>