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117-3BF4-46DD-8ECC-5B023613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329-FEBA-43B1-8123-9EE71233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A71-6620-45E8-A41C-4C9D61CF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7F6-0ECD-44C4-BF45-373EC49D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D54E-5A3A-4A0A-B7A9-71089729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8BE4-B784-41FB-95C1-4EAE1589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BA3E-B0A7-43E2-8245-979C68D5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1CDB-7ED5-4E08-9970-86457F21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5B33-0D86-40C5-A190-48157785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83CD-1E13-4239-B606-8CD800F9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16EE-50DF-4B84-8340-004516B9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122-1B66-4BB8-AF02-615F9105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F770-0DA9-42E4-8C75-DA3F9A5A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448D-84A7-460D-8D17-EE95768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E587-29C3-413B-91B3-120B90BF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589E-6702-4C23-8BA3-202C3DA7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11B1-1BB0-433B-84AD-45C7451E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379-FC77-4137-B8CF-81C429C1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498C4-F055-44BA-BDD0-402E2DA1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DEAD2-B246-41C0-A1A7-19B65258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ED92E2-632A-4899-A243-BE684BFE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E9F-BB10-4ECC-A4A3-EA2CAD5F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F3B7E-0694-4452-825D-C0A52CB3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B6EB1-FC1E-4924-81DE-25848AEF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1D3EE-ADEC-4F14-BDB9-7C2EA75D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C5A0B-AFEF-455A-82EA-7DB6B3EA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D3963-90B3-4594-9028-8C58B9EC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3B1DC-7F86-4FE8-AF47-0F94DED5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5F680-CBA2-4DE6-ADC3-B2604E02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0644DC-1218-414D-A665-CB5876A9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4CF31-6072-418E-9C12-A029FFCA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8150E-0841-4E4F-B4A4-BE93058B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13A-C014-48E2-B683-DA5B29B4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F9028-08B0-4D31-ACAA-BC81ADD9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0B301-5F25-47E4-91BF-22646B09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24687-8EEA-4D76-BF77-5E99E1AD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219DA-F291-4FC4-B3EA-A6B8C201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9A4D8-FEE8-4B1F-B0F5-1036EA25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0A77E-425A-4E4E-B9F6-31F4E059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9DEC6-0D23-4D37-A534-185F9E8F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CC62D-627C-4DC1-941A-61E58466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3B3C3-CA03-44B2-BF5B-43F22ABB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1476D-2073-46AA-A5E3-E6F3E708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58A-BBD3-49BB-9B0F-DE324047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C5292-FFE8-4004-9D3D-4487E329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09412-DB1B-48EF-9A3B-3C0888B6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7DD60-AD85-4311-B67E-57D9F4C0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D15E6-2744-4AB0-94DD-BD32F884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1AA931-2D38-4112-95E8-3ED89543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7EF88-B1C0-4039-8461-20FBDD5C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9EBC5-2A2A-4E30-AE9E-37BD23CD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2C274-DFB0-4783-A167-717EE841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91100-46C7-464F-AA26-3DBC3DC4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F1408-C907-4E48-A818-25F482D1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BC6-7129-4BF0-80AE-613D76EE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B74E4-58E5-4E25-90C7-FD7B9FE2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D9F0B-76C5-4DA4-957A-ED5DE5F1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54C5C-BD0F-4C81-A42C-04536DE5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32371-6CAE-4FA5-8CE5-06EF8251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B0BBE-21DC-46A5-991D-1181D047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C0FD3-4E84-4DA8-924C-404E9D13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82553-168B-41BC-B69C-C148AF1C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CE0BB-9C64-4561-B806-BB1C1782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A2DCB-545D-4DCF-9E58-C31AC5AE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B959A-7CB7-493E-8F77-A1A1D555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204-749D-40B7-A41C-BAB665CA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DC23D-AA57-4E11-9168-54303C7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4A5DF-436D-49D5-A685-EAA8014C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9870F-C34B-48C2-A34B-905C5DA9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F2F94-6A5B-40F4-9C70-44E8834D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7F2BDF-4F87-48FF-97D7-12CF27F4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1DB-2A7D-4AF4-A27C-F7E360EE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1DA6-3D47-40A4-8E10-764F3BAD2CAF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m n RAJ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1E4C-7230-4B45-A415-BFEABF471124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4CFC-3541-403B-B562-8F8E792B0D77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m n RAJ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343C-3EC4-4BAB-960D-7464197F52A2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329F-8F62-49FA-8C52-F2BC1D1C6643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46712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19B1-D271-475B-B9B6-B2039B664E31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m n RAJ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677A-0BAD-4739-8434-A74A0F80A9AB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290C-2B23-429A-BDC8-028DF8CB70F4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m n RAJ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BF7C-7924-49C0-8E0D-CA2128551DCC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B75A-3268-40D2-8DC6-7E7F04DA343E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m n RAJ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3729-48B6-4621-9446-C4981311D06B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6B51-FA14-463F-B5E7-AB072E1D2211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m n RAJ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77CA-1537-45E6-A432-85309EEF29DC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3" descr=""/>
          <p:cNvPicPr/>
          <p:nvPr/>
        </p:nvPicPr>
        <p:blipFill>
          <a:blip r:embed="rId1"/>
          <a:stretch/>
        </p:blipFill>
        <p:spPr>
          <a:xfrm>
            <a:off x="55440" y="195120"/>
            <a:ext cx="9069480" cy="66265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943240" y="5051520"/>
            <a:ext cx="19810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457200" y="6094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Lucida Handwriting"/>
              </a:rPr>
              <a:t>Paragraph Writ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What is a Paragraph?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0880" y="18288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A group of sent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A clear main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Suppor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Part of a longer com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A miniature essay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304920" y="461880"/>
            <a:ext cx="853416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entury Gothic"/>
              </a:rPr>
              <a:t>A paragraph is often defined as a group of related sentences in which  one single, main idea is developed. In a typical paragraph, the first sentence declares the main topic of the paragraph and the rest of the sentences develop or support the main idea. A paragraph is most often a part of a longer composition comprising of several paragraph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A Good Paragraph has . . .</a:t>
            </a:r>
            <a:endParaRPr b="0" lang="en-US" sz="5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600200" y="17524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Coh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Good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Variety of Struc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Unity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440" y="21333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One main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Topic Sent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Other sentences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Coherence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001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4c7"/>
                </a:solidFill>
                <a:latin typeface="Bookman Old Style"/>
              </a:rPr>
              <a:t>Well organized detai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4c7"/>
                </a:solidFill>
                <a:latin typeface="Bookman Old Style"/>
              </a:rPr>
              <a:t>Chronolog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4c7"/>
                </a:solidFill>
                <a:latin typeface="Bookman Old Style"/>
              </a:rPr>
              <a:t>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4c7"/>
                </a:solidFill>
                <a:latin typeface="Bookman Old Style"/>
              </a:rPr>
              <a:t>log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4c7"/>
                </a:solidFill>
                <a:latin typeface="Bookman Old Style"/>
              </a:rPr>
              <a:t>A clear, sensible conn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4c7"/>
                </a:solidFill>
                <a:latin typeface="Bookman Old Style"/>
              </a:rPr>
              <a:t>Linkers/conne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Support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905120" y="213336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Evid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Det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Expla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 the final word(s) that summarise and present the whole points of the paragraph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t is located at the end of the  paragraph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Good Language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43000" y="220968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Grammatical Accura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Correct Punct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Apt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4c7"/>
                </a:solidFill>
                <a:latin typeface="Bookman Old Style"/>
              </a:rPr>
              <a:t>Variety of Struc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7467480" y="626436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 n RA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06:01:22Z</dcterms:created>
  <dc:creator>RAJU</dc:creator>
  <dc:description/>
  <dc:language>en-US</dc:language>
  <cp:lastModifiedBy>CEX</cp:lastModifiedBy>
  <dcterms:modified xsi:type="dcterms:W3CDTF">2015-03-09T05:17:20Z</dcterms:modified>
  <cp:revision>87</cp:revision>
  <dc:subject/>
  <dc:title>Slide 1</dc:title>
</cp:coreProperties>
</file>