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10C7-88F0-4024-95B1-802F5022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ACF-B1AE-4932-8FA5-D77A998D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06F2-1907-43B3-B71F-4B61D7BD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549-E54E-4920-9C5D-D9FCFC1B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7EB-60B4-42E7-8B74-8053479B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498-1550-4B1E-8F4B-E443F209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3BF-89BD-43B5-B2DB-9FE67673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3D5-ED41-452F-A83B-19C581F7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172E-D0AC-4729-8272-7E2855F4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20C1-60AC-438B-B8F8-33E457BA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8D33-8C0B-4601-91E9-712EF6E1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F99-225A-42BD-B182-6D00FA65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7FF4-2611-495E-8514-B0177BDC1D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www.youthfulyou.com/images/vprob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ipheral Neuropath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ctor F. Politi, M.D., Medical Director, St. Anthony’s School of Allied Health Professions, Physician Assistant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asionally, two or more isolated nerves in separate areas of the body are affected-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noneuritis multipl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cute neuropathies, such as Guillain-Barré syndrome, symptoms appear suddenly, progress rapidly, and resolve slowly as damaged nerves he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hronic forms, symptoms begin subtly and progress slowl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eople may have periods of relief followed by relap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s may reach a plateau stage where symptoms stay the same for many months or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hronic neuropathies worsen over time, but very few forms prove fatal unless complicated by other diseas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asionally the neuropathy is a symptom of another disord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most common forms of polyneuropathy, the nerve fibers most distant from the brain and the spinal cord malfunction firs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and other symptoms often appear symmetrically, for example, in both feet followed by a gradual progression up both leg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, the fingers, hands, and arms may become affected, and symptoms can progress into the central part of the bod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people with diabetic neuropathy experience this pattern of ascending nerve dama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atom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dy’s nervous system is made up of two par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The central nervous system (CNS)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The peripheral nervous system (PNS)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atom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eripheral nerve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cranial nerves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e701"/>
                </a:solidFill>
                <a:latin typeface="Arial"/>
              </a:rPr>
              <a:t>(with the exception of the second)</a:t>
            </a: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e70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spinal nerve roots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dorsal root ganglia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peripheral nerve trunks and their terminal branches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peripheral autonomic nervous system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agnostic Approac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fferential diagnosis of peripheral neuropathy is significantly narrowed by a focused clinical assessment that addresses several key issues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Does the patient actually have a neuropathy?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What is the pattern of involvement?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Is the neuropathy focal, multifocal or symmetric?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If the neuropathy is symmetric, is it proximal or distal?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patient actually have a neuropathy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Causes of generalized weakness include motor neuron disease, disorders of the neuromuscular junction and myopathy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Peripheral neuropathy can also be mimicked by myelopathy, syringomyelia or dorsal column disorders, such as tabes dorsalis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Hysterical symptoms can sometimes mimic a neuropathy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agnostic Approac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pheral neuropathy describes damage to the peripheral nervous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than 100 types of peripheral neuropathy have been identified, each with its own characteristic set of symptoms, pattern of development, and prognosi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neuropathy focal, multifocal or symmetric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Focal neuropathies include common compressive neuropathies such as carpal tunnel syndrome, ulnar neuropathy at the elbow or peroneal neuropathy at the fibular head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A multifocal neuropathy suggests a mononeuritis multiplex that may be caused, for example, by vasculitis or diabetes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agnostic Approac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neuropathy is symmetric, is it proximal or distal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Most toxic and metabolic neuropathies present as a distal symmetric or dying-back process.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Proximal sensory neuropathies are rare and include porphyria.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Predominantly motor neuropathies are often proximal and include acquired inflammatory neuropathies such as Guillain-Barré syndrome.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An exception is lead neuropathy, which initially affects motor fibers in radial and peroneal distributions. </a:t>
            </a:r>
            <a:endParaRPr b="0" lang="en-US" sz="20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agnostic Approac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stal Symmetric Sensorimotor Polyneuropathies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ctious disea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Acquired immunodeficiency syndrome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Lyme disease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rcoidos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ic neuropath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Acrylamide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Carbon disulfide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Dichlorophenoxyacetic acid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Ethylene oxide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Hexacarbons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Carbon monoxide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Organophosphorus esters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Glue sniffing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 neuropath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Chronic arsenic intoxication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Mercury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Gold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Thallium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s (see next sli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edications Causing Neuropathies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e701"/>
                </a:solidFill>
                <a:uFillTx/>
                <a:latin typeface="Arial"/>
              </a:rPr>
              <a:t>Axonal</a:t>
            </a:r>
            <a:r>
              <a:rPr b="0" lang="en-US" sz="1800" spc="-1" strike="noStrike" u="sng">
                <a:solidFill>
                  <a:srgbClr val="ffe701"/>
                </a:solidFill>
                <a:uFillTx/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ncristine (Oncovin, Vincosar PFS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clitaxel (Taxol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trous oxid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chicine (Probenecid, Col-Probenecid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niazid (Laniazid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ydralazine (Apresoline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ronidazole (Flagyl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yridoxine (Nestrex, Beesix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danosine (Videx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thium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fa interferon (Roferon-A, Intron A, Alferon N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pson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e701"/>
                </a:solidFill>
                <a:uFillTx/>
                <a:latin typeface="Arial"/>
              </a:rPr>
              <a:t>Axon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continued.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enytoin (Dilantin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metidine (Tagamet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ulfiram (Antabuse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loroquine (Aralen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hambutol (Myambutol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itriptyline (Elavil, End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Demyelina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iodarone (Cordarone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loroquin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amin (Fourneau 309, Bayer 205, Germanin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l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Neuronopathy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lidomide (Synovir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splatin (Platinol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yridox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ximal Symmetric Motor Polyneuropathies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Guillain-Barré syndrome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Chronic inflammatory demyelinating polyradiculoneuropathy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Diabetes mellitus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Porphyria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Osteosclerotic myeloma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Waldenstrom's macroglobulinemia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Monoclonal gammopathy of undetermined significance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Acute arsenic polyneuropathy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Lymphoma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Diphtheria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HIV/AIDS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Lyme disease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Hypothyroidism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Vincristine (Oncovin, Vincosar PFS) toxicity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pathies can be categorized according to the fiber type that is primarily involv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toxic and metabolic neuropathies are initially sensory and later may involve the motor fi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agnostic Approac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e sensory neuropathies can result from drug toxicity (e.g., thalidomide, cisplatin [Platinol]), paraneoplastic syndromes or nutritional deficienc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ily motor neuropathies include Guillain-Barré syndro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agnostic Approac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oholism and diabetes can both cause small-fiber, painful neuropath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agnostic Approac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nomic involvement occurs in many small-fiber neuropathies but can also occur in Guillain-Barré syndrome and is sometimes life-threate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agnostic Approac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important to distinguish whether the neuropathy is axonal, demyelinating, or bo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differentiation is best achieved using nerve conduction studies (NCS) and electromyography (EMG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agnostic Approac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ired function and symptoms depend on the type of ne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motor, sensory, or autonomic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are damag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betes, HIV infection and alcoholism can cause several patterns of neuropath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most commonly cause a distal, symmetric axonal sensorimotor neuropath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cond most common presentation in these conditions is a small-fiber, painful neuropath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agnostic Approac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mporal course of a neuropathy varies, based on the etiolo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With trauma or ischemic infarction, the onset will be acute, with the most severe symptoms at onset.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Inflammatory and some metabolic neuropathies have a subacute course extending over days to weeks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A chronic course over weeks to months is the hallmark of most toxic and metabolic neuropathies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ronic, slowly progressive neuropathy over many years occurs with most hereditary neuropathies or with chronic inflammatory demyelinating polyradiculoneuropathy (CIDP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pathies with a relapsing and remitting course include Guillain-Barré syndro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chemic neuropathies often have pain as a prominent featu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-fiber neuropathies often present with burning pain, lightning-like or lancinating pain, aching, or uncomfortable paresthesias (dysesthesia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ing-back (distal symmetric axonal) neuropathies initially involve the tips of the toes and progress proximally in a stocking-glove distribu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pheral neuropathy can present as restless leg syndro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ximal involvement may result in difficulty climbing stairs, getting out of a chair, lifting and swallowing, and in dysarthr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linical assessment should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careful past medical history, looking for systemic diseases that can be associated with neuropathy, such as diabetes or hypothyroidism.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medications can cause a peripheral neuropathy, typically a distal symmetric axonal sensorimotor neuropath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ailed inquiries about drug and alcohol use, as well as exposure to heavy metals and solvents, should be pursu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atients should be questioned regard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HIV risk factors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foreign travel (leprosy)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diet (nutrition)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vitamin use (especially B6)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possibility of a tick bite (Lyme disease)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view of systems may provide clues regarding other organ involvement and the presence of an underlying malignanc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or ner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control movements of all muscles under conscious control, such as those used for walking, grasping things, or talking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ory ner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transmit information about sensory experiences, such as the feeling of a light touch or the pain resulting from a cut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nomic ner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regulate biological activities that people do not control consciously, such as breathing, digesting food, and heart and gland functions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fferential Diagnosis of Neuropathies by Clinical Cours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371600"/>
          <a:ext cx="7848720" cy="4659480"/>
        </p:xfrm>
        <a:graphic>
          <a:graphicData uri="http://schemas.openxmlformats.org/drawingml/2006/table">
            <a:tbl>
              <a:tblPr/>
              <a:tblGrid>
                <a:gridCol w="2038320"/>
                <a:gridCol w="2381400"/>
                <a:gridCol w="1828800"/>
                <a:gridCol w="1600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Acute onset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(within days)</a:t>
                      </a:r>
                      <a:r>
                        <a:rPr b="0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Subacute onset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(weeks to months)</a:t>
                      </a:r>
                      <a:r>
                        <a:rPr b="0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Chronic course/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insidious onset</a:t>
                      </a:r>
                      <a:r>
                        <a:rPr b="0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Relapsing/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remitting course</a:t>
                      </a:r>
                      <a:r>
                        <a:rPr b="0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illain-Barré syndrom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ained exposure to toxic agents/medication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editary motor sensory neuropathi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illain-Barré syndrom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ute intermittent porphyri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isting nutritional deficiency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inantly inherited sensory neuropathy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P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ical illness polyneuropathy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normal metabolic stat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P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V/AID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phtheric neuropathy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neoplastic syndrom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xic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allium toxicity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P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phyri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ysical Examin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ranial nerve examination can provide evidence of mononeuropathies or proximal involvem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duscopic examination may show abnormalities such as optic pallor, which can be present in leukodystrophies and vitamin B12 deficienc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strength testing of muscles enervated by cranial nerves V, VII, IX/X, XI and XII is important, as mild bilateral weakness can be missed by observation onl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ysical Examin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tor examination includes a search for fasciculations or cramps, or loss of muscle bul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ne is normal or reduc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ysical Examin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tern of weakness helps narrow the diagnosis: symmetric or asymmetric, distal or proximal, and confined to a particular nerve, plexus or root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ysical Examin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ep tendon reflexes are reduced or abs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ilateral foot drop may result in a steppage gait in which the patient must lift the knees very high in order to clear the to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ximal weakness results in an inability to squat or to rise unassisted from a cha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ysical Examin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eneral physical examination can provide evidence of orthostatic hypotension without a compensatory rise in heart rate when autonomic fibers are involv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ysical Examin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rate and vital capacity should be evaluated in Guillain-Barré syndrome to assess for respiratory compromi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esence of lymphadenopathy, hepatomegaly or splenomegaly, and skin lesions may provide evidence of systemic disea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ysical Examin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le transverse bands in the nail beds, parallel to the lunula (Mees' lines), suggest arsenic poison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ysical Examin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boratory Evalu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G and nerve conduction studies (NCS) are often the most useful initial laboratory studies in the evaluation of a patient with peripheral neuropath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hough some neuropathies may affect all three types of nerves, others primarily affect one or two typ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Therefore, terms such as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predominately motor neuropathy</a:t>
            </a:r>
            <a:endParaRPr b="0" lang="en-US" sz="2400" spc="-1" strike="noStrike">
              <a:solidFill>
                <a:srgbClr val="ffe70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predominately sensory neuropathy</a:t>
            </a:r>
            <a:endParaRPr b="0" lang="en-US" sz="2400" spc="-1" strike="noStrike">
              <a:solidFill>
                <a:srgbClr val="ffe70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sensory-motor neuropathy</a:t>
            </a:r>
            <a:endParaRPr b="0" lang="en-US" sz="2400" spc="-1" strike="noStrike">
              <a:solidFill>
                <a:srgbClr val="ffe70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autonomic neuropathy </a:t>
            </a:r>
            <a:endParaRPr b="0" lang="en-US" sz="2400" spc="-1" strike="noStrike">
              <a:solidFill>
                <a:srgbClr val="ffe70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are often used to describe a patient's condition.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confirm the presence of a neuropathy and provide information as to the type of fibers involved (motor, sensory, or both), the pathophysiology (axonal loss versus demyelination) and a symmetric versus asymmetric or multifocal pattern of involvem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boratory Evalu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imitations of EMG/NCS should be taken into account when interpreting the finding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There is no reliable means of studying proximal sensory nerves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NCS results can be normal in patients with small-fiber neuropathies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Lower extremity sensory responses can be absent in normal elderly patients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G/NCS are not substitutes for a good clinical examin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boratory Evalu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equent studies should be tailored to the most likely diagnostic possibilities, and to the acuteness and severity of the neuropath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an acute progressive neuropathy, a neurologic consultation early in the course of the evaluation is essenti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rther evaluation of these patients includes EMG/NCS, lumbar puncture, chest radiograph, electrocardiogram and determination of forced vital capac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boratory Evalu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common presentation is that of a distal symmetric sensorimotor neuropath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evaluation should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fasting serum glucose, glycosylated hemoglobin, blood urea nitrogen, creatinine, complete blood cell count, erythrocyte sedimentation rate, urinalysis, vitamin B12 and thyrotropin stimulating hormone levels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Neurologic assessment may be warranted if the initial evaluation does not produce a diagnosis.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boratory Evalu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F is useful in evaluation of myelinopathies and polyradiculopath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levated total protein level with &lt; 5 wbc(albuminocytologic dissociation) is present in acquired inflammatory neuropathy (e.g., Guillain-Barré syndrome, CIDP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boratory Evalu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studies useful in specific clinical context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cytology (lymphoma)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Arial"/>
              </a:rPr>
              <a:t>special studies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such as Lyme polymerase chain reaction and cytomegalovirus branched chain DNA (polyradiculopathy or mononeuritis multiplex in AIDS).</a:t>
            </a:r>
            <a:endParaRPr b="0" lang="en-US" sz="2400" spc="-1" strike="noStrike">
              <a:solidFill>
                <a:srgbClr val="ffe70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boratory Evalu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 biopsy is only helpful in very specific cases to diagnose vasculitis, leprosy, amyloid neuropathy, leukodystrophies, sarcoidosis and, occasionally, CID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boratory Evalu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be difficult to document a small-fiber neuropathy because the only abnormalities on neurologic examination may be loss of pinprick and temperature sensation in a distal distribu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boratory Evalu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7" name="Picture 6" descr="vprob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4689360"/>
            <a:ext cx="33526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G/NCS may be norm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nomic studies are only helpful if the autonomic fibers are involv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a result, small-fiber neuropathy remains a primarily clinical diagnosi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boratory Evalu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valuation should include the most likely causes (i.e., diabetes, alcoholism, AID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se studies are normal, a neurologic consultation is recommend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boratory Evalu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every peripheral nerve has a highly specialized function in a specific part of the body, a wide array of symptoms can occur when nerves are damag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eople may experience temporary numbness, tingling, and pricking sensations (paresthesia), sensitivity to touch, or muscle weakn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al of treatment is to manage the underlying condition causing the neuropathy and repair damage, as well as provide symptom relie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ling a chronic condition may not eliminate the neuropathy, but it can play a key role in managing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ropathic pain is often difficult to contro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OTC analgesics 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antiepileptic drugs, including gabapentin, phenytoin, and carbamazepine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some classes of antidepressants, including tricyclics such as amitriptyline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Mexiletine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local anesthetics such as lidocaine or topical patches containing lidocaine 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Codeine/oxycodone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aids can help reduce pain and lessen the impact of physical disabil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Hand or foot braces can compensate for muscle weakness or alleviate nerve compression.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Orthopedic shoes can improve gait disturbances and help prevent foot injuries in people with a loss of pain sensation.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breathing becomes severely impaired, mechanical ventilation can provide essential life suppor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gical intervention often can provide immediate relief from mononeuropathies caused by compression or entrapment injur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Repair of a slipped disk can reduce pressure on nerves where they emerge from the spinal cord; the removal of benign or malignant tumors can also alleviate damaging pressure on nerves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Nerve entrapment often can be corrected by the surgical release of ligaments or tendons. 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stions ??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s may suffer more extreme symptoms, including burning pain (especially at night), muscle wasting, paralysis, or organ or gland dysfun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may become unable to digest food easily, maintain safe levels of blood pressure, sweat normally, or experience normal sexual fun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most extreme cases, breathing may become difficult or organ failure may occu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forms of neuropathy involve damage to only one nerve and are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noneuropath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often though, multiple nerves affecting all limbs are affected-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lyneuropath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16:35:12Z</dcterms:created>
  <dc:creator>Victor</dc:creator>
  <dc:description/>
  <dc:language>en-US</dc:language>
  <cp:lastModifiedBy>SAMSUNG NP350</cp:lastModifiedBy>
  <dcterms:modified xsi:type="dcterms:W3CDTF">2012-09-27T01:52:14Z</dcterms:modified>
  <cp:revision>37</cp:revision>
  <dc:subject/>
  <dc:title>Peripheral Neuropathy</dc:title>
</cp:coreProperties>
</file>