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2B6-698D-424A-93C1-C1C21667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205-94C6-4B08-8CC0-F5E362B3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3D5-02C8-4539-88E5-DDE65516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72D-9E27-4AA9-855E-F95DE285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0FE-2625-46BC-95E3-F6B7004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C3-941E-49E4-9888-05FB329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047-00DB-4F9C-9D29-944156B8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A84-2CE8-4CE3-B922-238D40E8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FBC-53FF-4049-8A35-8AA721A1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B7C-DC56-47FB-9019-30A024C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5E2-E6FD-470F-9363-A8E5E8D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F5D-D5D2-464B-B163-1936F5B1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165-B31C-47BA-8CEE-406A3E6B2F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youthfulyou.com/images/vprob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pheral Neuropath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tor F. Politi, M.D., Medical Director, St. Anthony’s School of Allied Health Professions, Physician Assistant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, two or more isolated nerves in separate areas of the body are affected-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noneuritis multipl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cute neuropathies, such as Guillain-Barré syndrome, symptoms appear suddenly, progress rapidly, and resolve slowly as damaged nerves he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ronic forms, symptoms begin subtly and progress slow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may have periods of relief followed by relap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may reach a plateau stage where symptoms stay the same for many months or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hronic neuropathies worsen over time, but very few forms prove fatal unless complicated by other dise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 the neuropathy is a symptom of another disord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st common forms of polyneuropathy, the nerve fibers most distant from the brain and the spinal cord malfunction fir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and other symptoms often appear symmetrically, for example, in both feet followed by a gradual progression up both le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the fingers, hands, and arms may become affected, and symptoms can progress into the central part of the bo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eople with diabetic neuropathy experience this pattern of ascending nerve dam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’s nervous system is made up of two par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 central nervous system (CNS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 peripheral nervous system (PNS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ipheral nerv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ranial nerv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Arial"/>
              </a:rPr>
              <a:t>(with the exception of the second)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spinal nerve root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dorsal root ganglia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peripheral nerve trunks and their terminal branch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peripheral autonomic nervous system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tial diagnosis of peripheral neuropathy is significantly narrowed by a focused clinical assessment that addresses several key issues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oes the patient actually have a neuropathy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hat is the pattern of involvement?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the neuropathy focal, multifocal or symmetric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f the neuropathy is symmetric, is it proximal or distal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atient actually have a neuropath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auses of generalized weakness include motor neuron disease, disorders of the neuromuscular junction and myopathy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eripheral neuropathy can also be mimicked by myelopathy, syringomyelia or dorsal column disorders, such as tabes dorsali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Hysterical symptoms can sometimes mimic a neuropathy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europathy describes damage to the peripheral nervous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00 types of peripheral neuropathy have been identified, each with its own characteristic set of symptoms, pattern of development, and pro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neuropathy focal, multifocal or symmetric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Focal neuropathies include common compressive neuropathies such as carpal tunnel syndrome, ulnar neuropathy at the elbow or peroneal neuropathy at the fibular head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 multifocal neuropathy suggests a mononeuritis multiplex that may be caused, for example, by vasculitis or diabetes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neuropathy is symmetric, is it proximal or dist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Most toxic and metabolic neuropathies present as a distal symmetric or dying-back process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ximal sensory neuropathies are rare and include porphyria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edominantly motor neuropathies are often proximal and include acquired inflammatory neuropathies such as Guillain-Barré syndrome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An exception is lead neuropathy, which initially affects motor fibers in radial and peroneal distributions. </a:t>
            </a:r>
            <a:endParaRPr b="0" lang="en-US" sz="20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tal Symmetric Sensorimotor Poly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us dise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quired immunodeficiency syndrom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e diseas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rcoid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neur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rylam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arbon disulf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chlorophenoxyacetic acid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Ethylene ox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exacarbon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arbon monox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rganophosphorus ester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lue sniffing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neur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hronic arsenic intoxication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Mercur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old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Thallium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(see 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dications Causing 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Axonal</a:t>
            </a:r>
            <a:r>
              <a:rPr b="0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ncristine (Oncovin, Vincosar PFS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litaxel (Tax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us oxid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chicine (Probenecid, Col-Probenecid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niazid (Laniazid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dralazine (Apresolin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ronidazole (Flagy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doxine (Nestrex, Beesix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danosine (Videx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hium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a interferon (Roferon-A, Intron A, Alferon 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pson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Ax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continued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enytoin (Dilanti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tidine (Tagamet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ulfiram (Antabus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quine (Arale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mbutol (Myambut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triptyline (Elavil, End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Demyelina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odarone (Cordaron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quin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amin (Fourneau 309, Bayer 205, Germani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Neuronopathy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lidomide (Synovir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splatin (Platin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dox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ximal Symmetric Motor Poly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uillain-Barré syndrom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hronic inflammatory demyelinating polyradiculoneuropath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abetes mellitu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Porphyr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steosclerotic myeloma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Waldenstrom's macroglobulinem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Monoclonal gammopathy of undetermined significanc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ute arsenic polyneuropath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phom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phther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IV/AID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e diseas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ypothyroidism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incristine (Oncovin, Vincosar PFS) toxicit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es can be categorized according to the fiber type that is primarily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oxic and metabolic neuropathies are initially sensory and later may involve the motor fi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sensory neuropathies can result from drug toxicity (e.g., thalidomide, cisplatin [Platinol]), paraneoplastic syndromes or nutritional deficienc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motor neuropathies include Guillain-Barré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ism and diabetes can both cause small-fiber, painful neuropath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ic involvement occurs in many small-fiber neuropathies but can also occur in Guillain-Barré syndrome and is sometimes life-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important to distinguish whether the neuropathy is axonal, demyelinating, or bo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ifferentiation is best achieved using nerve conduction studies (NCS) and electromyography (EM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ired function and symptoms depend on the type of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motor, sensory, or autonomic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re dam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, HIV infection and alcoholism can cause several patterns of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ost commonly cause a distal, symmetric axonal sensorimotor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most common presentation in these conditions is a small-fiber, painful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oral course of a neuropathy varies, based on the etiolo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ith trauma or ischemic infarction, the onset will be acute, with the most severe symptoms at onset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flammatory and some metabolic neuropathies have a subacute course extending over days to week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 chronic course over weeks to months is the hallmark of most toxic and metabolic neuropathi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, slowly progressive neuropathy over many years occurs with most hereditary neuropathies or with chronic inflammatory demyelinating polyradiculoneuropathy (CIDP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es with a relapsing and remitting course include Guillain-Barré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chemic neuropathies often have pain as a prominent fe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-fiber neuropathies often present with burning pain, lightning-like or lancinating pain, aching, or uncomfortable paresthesias (dysesthesia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ing-back (distal symmetric axonal) neuropathies initially involve the tips of the toes and progress proximally in a stocking-glove distrib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europathy can present as restless leg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involvement may result in difficulty climbing stairs, getting out of a chair, lifting and swallowing, and in dysarth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nical assessment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careful past medical history, looking for systemic diseases that can be associated with neuropathy, such as diabetes or hypothyroidism.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edications can cause a peripheral neuropathy, typically a distal symmetric axonal sensorimotor neuropath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 inquiries about drug and alcohol use, as well as exposure to heavy metals and solvents, should be pursu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atients should be questioned regar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HIV risk factors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foreign travel (leprosy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diet (nutrition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vitamin use (especially B6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possibility of a tick bite (Lyme disease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iew of systems may provide clues regarding other organ involvement and the presence of an underlying malignan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ontrol movements of all muscles under conscious control, such as those used for walking, grasping things, or talking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ransmit information about sensory experiences, such as the feeling of a light touch or the pain resulting from a cut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ic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regulate biological activities that people do not control consciously, such as breathing, digesting food, and heart and gland function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tial Diagnosis of Neuropathies by Clinical Cours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371600"/>
          <a:ext cx="7848720" cy="4659480"/>
        </p:xfrm>
        <a:graphic>
          <a:graphicData uri="http://schemas.openxmlformats.org/drawingml/2006/table">
            <a:tbl>
              <a:tblPr/>
              <a:tblGrid>
                <a:gridCol w="2038320"/>
                <a:gridCol w="2381400"/>
                <a:gridCol w="1828800"/>
                <a:gridCol w="1600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cute onse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(within days)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bacute onse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(weeks to months)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hronic course/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insidious onset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elapsing/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emitting course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ained exposure to toxic agents/medic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editary motor sensory neuropathi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intermittent 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isting nutritional deficienc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inantly inherited sensory 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illness poly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normal metabolic sta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V/AID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eric 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neoplastic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llium toxicit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anial nerve examination can provide evidence of mononeuropathies or proximal invol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uscopic examination may show abnormalities such as optic pallor, which can be present in leukodystrophies and vitamin B12 deficien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strength testing of muscles enervated by cranial nerves V, VII, IX/X, XI and XII is important, as mild bilateral weakness can be missed by observation on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tor examination includes a search for fasciculations or cramps, or loss of muscle bul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 is normal or reduc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tern of weakness helps narrow the diagnosis: symmetric or asymmetric, distal or proximal, and confined to a particular nerve, plexus or root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tendon reflexes are reduced or abs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lateral foot drop may result in a steppage gait in which the patient must lift the knees very high in order to clear the to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weakness results in an inability to squat or to rise unassisted from a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l physical examination can provide evidence of orthostatic hypotension without a compensatory rise in heart rate when autonomic fibers are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 and vital capacity should be evaluated in Guillain-Barré syndrome to assess for respiratory comprom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ence of lymphadenopathy, hepatomegaly or splenomegaly, and skin lesions may provide evidence of systemic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 transverse bands in the nail beds, parallel to the lunula (Mees' lines), suggest arsenic poiso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G and nerve conduction studies (NCS) are often the most useful initial laboratory studies in the evaluation of a patient with peripheral neuropat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some neuropathies may affect all three types of nerves, others primarily affect one or two typ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refore, terms such a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redominately motor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redominately sensory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ensory-motor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utonomic neuropathy 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are often used to describe a patient's condition.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confirm the presence of a neuropathy and provide information as to the type of fibers involved (motor, sensory, or both), the pathophysiology (axonal loss versus demyelination) and a symmetric versus asymmetric or multifocal pattern of invol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mitations of EMG/NCS should be taken into account when interpreting the find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ere is no reliable means of studying proximal sensory nerv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CS results can be normal in patients with small-fiber neuropathies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ower extremity sensory responses can be absent in normal elderly patient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G/NCS are not substitutes for a good clinical examin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equent studies should be tailored to the most likely diagnostic possibilities, and to the acuteness and severity of the neuropath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n acute progressive neuropathy, a neurologic consultation early in the course of the evaluation is ess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evaluation of these patients includes EMG/NCS, lumbar puncture, chest radiograph, electrocardiogram and determination of forced vital capa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presentation is that of a distal symmetric sensorimotor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evaluation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fasting serum glucose, glycosylated hemoglobin, blood urea nitrogen, creatinine, complete blood cell count, erythrocyte sedimentation rate, urinalysis, vitamin B12 and thyrotropin stimulating hormone level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eurologic assessment may be warranted if the initial evaluation does not produce a diagnosis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F is useful in evaluation of myelinopathies and polyradiculopath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vated total protein level with &lt; 5 wbc(albuminocytologic dissociation) is present in acquired inflammatory neuropathy (e.g., Guillain-Barré syndrome, CIDP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udies useful in specific clinical contex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cytology (lymphoma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special studi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uch as Lyme polymerase chain reaction and cytomegalovirus branched chain DNA (polyradiculopathy or mononeuritis multiplex in AIDS).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biopsy is only helpful in very specific cases to diagnose vasculitis, leprosy, amyloid neuropathy, leukodystrophies, sarcoidosis and, occasionally, CID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difficult to document a small-fiber neuropathy because the only abnormalities on neurologic examination may be loss of pinprick and temperature sensation in a distal distrib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7" name="Picture 6" descr="vprob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689360"/>
            <a:ext cx="3352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G/NCS may be nor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ic studies are only helpful if the autonomic fibers are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result, small-fiber neuropathy remains a primarily clinical dia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aluation should include the most likely causes (i.e., diabetes, alcoholism, AID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se studies are normal, a neurologic consultation is recomme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every peripheral nerve has a highly specialized function in a specific part of the body, a wide array of symptoms can occur when nerves are dam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may experience temporary numbness, tingling, and pricking sensations (paresthesia), sensitivity to touch, or muscle weak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of treatment is to manage the underlying condition causing the neuropathy and repair damage, as well as provide symptom r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ing a chronic condition may not eliminate the neuropathy, but it can play a key role in managing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pathic pain is often difficult to contr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OTC analgesics 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ntiepileptic drugs, including gabapentin, phenytoin, and carbamazepi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ome classes of antidepressants, including tricyclics such as amitriptyline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Mexileti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ocal anesthetics such as lidocaine or topical patches containing lidocaine 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odeine/oxycodo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aids can help reduce pain and lessen the impact of physical dis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and or foot braces can compensate for muscle weakness or alleviate nerve compression.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rthopedic shoes can improve gait disturbances and help prevent foot injuries in people with a loss of pain sensation.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reathing becomes severely impaired, mechanical ventilation can provide essential life suppo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intervention often can provide immediate relief from mononeuropathies caused by compression or entrapment inju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Repair of a slipped disk can reduce pressure on nerves where they emerge from the spinal cord; the removal of benign or malignant tumors can also alleviate damaging pressure on nerv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erve entrapment often can be corrected by the surgical release of ligaments or tendon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??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may suffer more extreme symptoms, including burning pain (especially at night), muscle wasting, paralysis, or organ or gland dysfun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may become unable to digest food easily, maintain safe levels of blood pressure, sweat normally, or experience normal sexual fun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st extreme cases, breathing may become difficult or organ failure may occu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orms of neuropathy involve damage to only one nerve and are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noneuropath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though, multiple nerves affecting all limbs are affected-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lyneuropat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6:35:12Z</dcterms:created>
  <dc:creator>Victor</dc:creator>
  <dc:description/>
  <dc:language>en-US</dc:language>
  <cp:lastModifiedBy>SAMSUNG NP350</cp:lastModifiedBy>
  <dcterms:modified xsi:type="dcterms:W3CDTF">2012-09-27T01:52:14Z</dcterms:modified>
  <cp:revision>37</cp:revision>
  <dc:subject/>
  <dc:title>Peripheral Neuropathy</dc:title>
</cp:coreProperties>
</file>