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2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425480"/>
            <a:ext cx="8412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41050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2520" y="2138400"/>
            <a:ext cx="41050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425480"/>
            <a:ext cx="41050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2520" y="4425480"/>
            <a:ext cx="41050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27082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5880" y="2138400"/>
            <a:ext cx="27082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09880" y="2138400"/>
            <a:ext cx="27082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425480"/>
            <a:ext cx="27082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5880" y="4425480"/>
            <a:ext cx="27082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09880" y="4425480"/>
            <a:ext cx="27082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400"/>
            <a:ext cx="84121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21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410508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2520" y="2138400"/>
            <a:ext cx="410508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11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41050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2520" y="2138400"/>
            <a:ext cx="410508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425480"/>
            <a:ext cx="41050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410508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2520" y="2138400"/>
            <a:ext cx="41050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2520" y="4425480"/>
            <a:ext cx="41050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41050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2520" y="2138400"/>
            <a:ext cx="41050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425480"/>
            <a:ext cx="8412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400"/>
            <a:ext cx="84121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-952920"/>
            <a:ext cx="8607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99284c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99284c"/>
                </a:solidFill>
                <a:latin typeface="Arial"/>
              </a:rPr>
              <a:t>Вміння здійснювати і оформлювати науково-дослідну діяльність - запорука успіху учасника МАН”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549000"/>
            <a:ext cx="8607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53880" indent="-35388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Другий етап -</a:t>
            </a: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підготовка і проведення </a:t>
            </a:r>
            <a:br>
              <a:rPr sz="3600"/>
            </a:b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дослідження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580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580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1. Підготовка діагностичних матеріалів з теми дослідження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8580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8580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2. Проведення дослідження по темі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8580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(досліди, експерименти)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8580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8580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3. Аналіз дослідження, висновки по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8580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експерименту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53880" indent="-35388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Третій етап -</a:t>
            </a: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оформлення дослідної роботи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9760" y="1809720"/>
            <a:ext cx="841824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1. Написання основної частини роботи, її вступу і висновку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а) визначення композиції роботи;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б) вибір стилю і мови дослідження;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в) написання  вступу і висновку;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2. Складання списку літератур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3. Складання списку ілюстрації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4. Складання додатків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5. Оформлення титульної сторінк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333333"/>
                </a:solidFill>
                <a:latin typeface="Arial"/>
              </a:rPr>
              <a:t>6. Оформлення роботи відповідно до вимог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Четвертий етап - </a:t>
            </a:r>
            <a:br>
              <a:rPr sz="4000"/>
            </a:b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підготовка та захист роботи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580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580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1. Здача роботи керівнику для отримання відгуку і рецензії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580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580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2. Підготовка тексту для публічного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580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захисту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’ятий етап - </a:t>
            </a:r>
            <a:br>
              <a:rPr sz="4000"/>
            </a:b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«рефлексивний»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dc2300"/>
                </a:solidFill>
                <a:latin typeface="Arial"/>
              </a:rPr>
              <a:t>Аналіз проведеної роботи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8920" y="684000"/>
            <a:ext cx="8607240" cy="1958760"/>
          </a:xfrm>
          <a:prstGeom prst="rect">
            <a:avLst/>
          </a:prstGeom>
          <a:noFill/>
          <a:ln w="9360">
            <a:solidFill>
              <a:srgbClr val="3333cc"/>
            </a:solidFill>
            <a:round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Етапи виконання науково-</a:t>
            </a: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дослідної роботи.</a:t>
            </a:r>
            <a:br>
              <a:rPr sz="3600"/>
            </a:b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Перший етап - </a:t>
            </a:r>
            <a:br>
              <a:rPr sz="3200"/>
            </a:b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підготовка до дослідження 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99640" y="196200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Попередній вибір теми і складання списку літератури з проблеми дослідження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2. Визначення об’єкта і предмета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дослідження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3. Виділення основних понять теми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4. Вивчення літератури з теми дослідження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5. Уточнення теми; формулювання гіпотези, мети і завдань; вибір методів дослідження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0000" y="720720"/>
            <a:ext cx="8607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Вимоги МАНівської роботи 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101680"/>
            <a:ext cx="8418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• </a:t>
            </a:r>
            <a:r>
              <a:rPr b="1" lang="uk-UA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ктуальність</a:t>
            </a:r>
            <a:r>
              <a:rPr b="0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відображення проблем сучасної науки і практики , відповідність насущним запитам суспільства);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• </a:t>
            </a:r>
            <a:r>
              <a:rPr b="1" lang="uk-UA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містовність</a:t>
            </a:r>
            <a:r>
              <a:rPr b="0" lang="uk-UA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і інформативність</a:t>
            </a:r>
            <a:r>
              <a:rPr b="1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uk-UA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озробленість у науці);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• </a:t>
            </a:r>
            <a:r>
              <a:rPr b="1" lang="uk-UA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можливість пошуку</a:t>
            </a:r>
            <a:r>
              <a:rPr b="1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наявність достатньої кількості літератури з теми дослідження);</a:t>
            </a:r>
            <a:r>
              <a:rPr b="1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• </a:t>
            </a:r>
            <a:r>
              <a:rPr b="1" lang="uk-UA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явність елемента новизни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720720"/>
            <a:ext cx="8607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Вимоги до теми МАНівської роботи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101680"/>
            <a:ext cx="8418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• </a:t>
            </a:r>
            <a:r>
              <a:rPr b="0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формульована тема повинна містити якийсь </a:t>
            </a:r>
            <a:r>
              <a:rPr b="1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пірний момент</a:t>
            </a:r>
            <a:r>
              <a:rPr b="0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зіткнення різних точок зору на одну проблему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• </a:t>
            </a:r>
            <a:r>
              <a:rPr b="0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зва роботи може і не включати в себе слово проблема, але , тим не менш, </a:t>
            </a:r>
            <a:r>
              <a:rPr b="1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облемність </a:t>
            </a:r>
            <a:r>
              <a:rPr b="0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винна матися на увазі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• </a:t>
            </a:r>
            <a:r>
              <a:rPr b="0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ема має бути </a:t>
            </a:r>
            <a:r>
              <a:rPr b="1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онкретною і вузькою</a:t>
            </a:r>
            <a:r>
              <a:rPr b="0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• </a:t>
            </a:r>
            <a:r>
              <a:rPr b="0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сі зазначені ключові </a:t>
            </a:r>
            <a:r>
              <a:rPr b="1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няття</a:t>
            </a:r>
            <a:r>
              <a:rPr b="0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в темі  -</a:t>
            </a:r>
            <a:r>
              <a:rPr b="1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озкриватися в роботі.</a:t>
            </a:r>
            <a:r>
              <a:rPr b="0" lang="uk-UA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99284c"/>
                </a:solidFill>
                <a:latin typeface="Arial"/>
              </a:rPr>
              <a:t>Об’єкт і предмет </a:t>
            </a:r>
            <a:br>
              <a:rPr sz="4400"/>
            </a:br>
            <a:r>
              <a:rPr b="1" i="1" lang="ru-RU" sz="4400" spc="-1" strike="noStrike">
                <a:solidFill>
                  <a:srgbClr val="99284c"/>
                </a:solidFill>
                <a:latin typeface="Arial"/>
              </a:rPr>
              <a:t>дослідження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333333"/>
                </a:solidFill>
                <a:latin typeface="Arial"/>
              </a:rPr>
              <a:t>Об'єктом</a:t>
            </a:r>
            <a:r>
              <a:rPr b="0" lang="uk-UA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333333"/>
                </a:solidFill>
                <a:latin typeface="Arial"/>
              </a:rPr>
              <a:t>дослідження називається процес або явище, що породжує проблемну ситуацію і обране для вивчення. Головне питання при визначенні об'єкта: «Що розглядається?»</a:t>
            </a:r>
            <a:r>
              <a:rPr b="0" lang="uk-UA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333333"/>
                </a:solidFill>
                <a:latin typeface="Arial"/>
              </a:rPr>
              <a:t>Предмет</a:t>
            </a:r>
            <a:r>
              <a:rPr b="0" lang="uk-UA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333333"/>
                </a:solidFill>
                <a:latin typeface="Arial"/>
              </a:rPr>
              <a:t>дослідження визначається при відповіді на наступні питання: «Як розглядати об'єкт?», «Які відносини йому притаманні?», «Які аспекти і функції виділяє дослідник для вивчення об'єкта?»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Визначення об’єкта і предмета </a:t>
            </a:r>
            <a:br>
              <a:rPr sz="4000"/>
            </a:b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дослідженн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Об'єкт дослідження</a:t>
            </a:r>
            <a:r>
              <a:rPr b="0" lang="uk-UA" sz="2600" spc="-1" strike="noStrike">
                <a:solidFill>
                  <a:srgbClr val="333333"/>
                </a:solidFill>
                <a:latin typeface="Arial"/>
                <a:ea typeface="Times New Roman"/>
              </a:rPr>
              <a:t> – це предмет матеріального світу, явище, певні властивості, а також зв'язки між явищами та властивостями дійсності.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Предмет дослідження</a:t>
            </a:r>
            <a:r>
              <a:rPr b="0" lang="uk-UA" sz="2600" spc="-1" strike="noStrike">
                <a:solidFill>
                  <a:srgbClr val="333333"/>
                </a:solidFill>
                <a:latin typeface="Arial"/>
                <a:ea typeface="Times New Roman"/>
              </a:rPr>
              <a:t> – це визначення найбільш значущих властивостей і зв'язків об'єкта, важливих для проведення даного дослідження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6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600" spc="-1" strike="noStrike">
                <a:solidFill>
                  <a:srgbClr val="333333"/>
                </a:solidFill>
                <a:latin typeface="Arial"/>
                <a:ea typeface="Times New Roman"/>
              </a:rPr>
              <a:t>Предмет і об'єкт дослідження співвідносяться між собою як часткове і ціле (загальне). Виділяється саме та його частина властивостей об'єкта, на який спрямовується основна увага дослідника. </a:t>
            </a:r>
            <a:r>
              <a:rPr b="1" lang="uk-UA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Предмет дослідження відображається у формулюванні його мети і в назві науково-дослідницької робот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Вивчення літератури з теми </a:t>
            </a:r>
            <a:br>
              <a:rPr sz="3200"/>
            </a:b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дослідження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860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26960">
              <a:lnSpc>
                <a:spcPct val="83000"/>
              </a:lnSpc>
              <a:buClr>
                <a:srgbClr val="333333"/>
              </a:buClr>
              <a:buSzPct val="75000"/>
              <a:buFont typeface="Arial"/>
              <a:buChar char="•"/>
              <a:tabLst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Знайомство з літературою за темою дослідження відбувається в бібліотеці за допомогою бібліотечних каталогів. Пошук джерел по картотеці повинен завершитися складанням списку літератури для опрацювання. Можна також використовувати Інтернет ресурси, але їх має бути не більше ніж книжкових видань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26960">
              <a:lnSpc>
                <a:spcPct val="83000"/>
              </a:lnSpc>
              <a:buClr>
                <a:srgbClr val="333333"/>
              </a:buClr>
              <a:buSzPct val="75000"/>
              <a:buFont typeface="Arial"/>
              <a:buChar char="•"/>
              <a:tabLst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Слід враховувати, що є конкретні вимоги до оформлення використаних в роботі літературних джерел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Приклад оформлення списку літератури для опрацювання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961640"/>
            <a:ext cx="84186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З метою полегшення аналізу наукової літератури всі свої думки, зауваження, висновки, основні ідеї, -  бажано записувати в таблицю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20720" y="4859280"/>
          <a:ext cx="8521560" cy="1979640"/>
        </p:xfrm>
        <a:graphic>
          <a:graphicData uri="http://schemas.openxmlformats.org/drawingml/2006/table">
            <a:tbl>
              <a:tblPr/>
              <a:tblGrid>
                <a:gridCol w="2840040"/>
                <a:gridCol w="2841480"/>
                <a:gridCol w="2840040"/>
              </a:tblGrid>
              <a:tr h="1066680">
                <a:tc>
                  <a:txBody>
                    <a:bodyPr lIns="90000" rIns="90000" tIns="26892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Arial"/>
                          <a:ea typeface="msmincho"/>
                        </a:rPr>
                        <a:t>Назва джере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6633"/>
                    </a:solidFill>
                  </a:tcPr>
                </a:tc>
                <a:tc>
                  <a:txBody>
                    <a:bodyPr lIns="90000" rIns="90000" tIns="26892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msmincho"/>
                        </a:rPr>
                        <a:t>Основні тези, пробле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6633"/>
                    </a:solidFill>
                  </a:tcPr>
                </a:tc>
                <a:tc>
                  <a:txBody>
                    <a:bodyPr lIns="90000" rIns="90000" tIns="26892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msmincho"/>
                        </a:rPr>
                        <a:t>Коментар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6633"/>
                    </a:solidFill>
                  </a:tcPr>
                </a:tc>
              </a:tr>
              <a:tr h="912960"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Формулювання мети, </a:t>
            </a:r>
            <a:br>
              <a:rPr sz="4000"/>
            </a:b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завдань і гіпотези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86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1. При визначенні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мети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дослідження необхідно відповісти на питання: «Який результат передбачається отримати?», «Яким бачиться цей результат ще до його одержання?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2. Під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завданнями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дослідження розуміється те, що можна зробити для досягнення мети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3.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Гіпотеза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містить припущення про зв'язок певної діяльності з її результатом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21:59:19Z</dcterms:created>
  <dc:creator>Iryna </dc:creator>
  <dc:description>General introduction of a new product taking customer wishes into account</dc:description>
  <dc:language>en-US</dc:language>
  <cp:lastModifiedBy>User</cp:lastModifiedBy>
  <dcterms:modified xsi:type="dcterms:W3CDTF">2015-05-07T10:03:25Z</dcterms:modified>
  <cp:revision>7</cp:revision>
  <dc:subject/>
  <dc:title>Introducing a New Product</dc:title>
</cp:coreProperties>
</file>