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01B54-DE90-495C-B206-E08A4ADDF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9EC82-5062-4E98-8233-5B07B8146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8371A-F915-41C0-87C6-5CB07C475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76D5F-5FE2-4D17-A3DE-A0BF5F029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51E0B-9975-4240-8361-4E2734697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5237B-6923-4862-B678-656B2C2AB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7FFEC-6A64-4DC5-95BC-F52853F35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CF998-7C99-49C0-9BDA-D53023F09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7C454-DC06-4D60-8906-360047F60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D370B-16F6-495B-8C43-816F7981A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3B998-2E1C-4D43-8960-91D7D2369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A4BF7-71A7-4548-BD26-AEDFAEE92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17178D-71EC-4182-8AF5-44BDD1396DC2}"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parajita"/>
              </a:rPr>
              <a:t>I Forgot My Yahoo Password What To Do ?</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1 844 780 6751</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parajita"/>
                <a:ea typeface="Calibri"/>
              </a:rPr>
              <a:t>How to Recover Yahoo Mail Password</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indent="0" algn="just">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parajita"/>
                <a:ea typeface="Calibri"/>
              </a:rPr>
              <a:t>It’s a fact that everyone uses a common User ID and password for all their sign-up services. But what will happen, if you lost  your password. Fortunately, you will be able to change your Yahoo password in case you forgot your current password. This will be  of great help to people who always forget thing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2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Calibri"/>
                <a:ea typeface="Calibri"/>
              </a:rPr>
              <a:t>Yahoo Password Recovery</a:t>
            </a:r>
            <a:endParaRPr b="0" lang="en-US" sz="4400" spc="-1" strike="noStrike">
              <a:solidFill>
                <a:srgbClr val="000000"/>
              </a:solidFill>
              <a:latin typeface="Arial"/>
            </a:endParaRPr>
          </a:p>
        </p:txBody>
      </p:sp>
      <p:sp>
        <p:nvSpPr>
          <p:cNvPr id="46" name="PlaceHolder 2"/>
          <p:cNvSpPr>
            <a:spLocks noGrp="1"/>
          </p:cNvSpPr>
          <p:nvPr>
            <p:ph/>
          </p:nvPr>
        </p:nvSpPr>
        <p:spPr>
          <a:xfrm>
            <a:off x="502920" y="1768320"/>
            <a:ext cx="9070920" cy="4989600"/>
          </a:xfrm>
          <a:prstGeom prst="rect">
            <a:avLst/>
          </a:prstGeom>
          <a:noFill/>
          <a:ln w="0">
            <a:noFill/>
          </a:ln>
        </p:spPr>
        <p:txBody>
          <a:bodyPr lIns="0" rIns="0" tIns="0" bIns="0" anchor="t">
            <a:normAutofit fontScale="90000"/>
          </a:bodyPr>
          <a:p>
            <a:pPr indent="0" algn="just">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parajita"/>
                <a:ea typeface="Calibri"/>
              </a:rPr>
              <a:t>Only with few simple steps, you will be able to Recover Yahoo Password if you have forgotten it.</a:t>
            </a:r>
            <a:endParaRPr b="0" lang="en-US" sz="3200" spc="-1" strike="noStrike">
              <a:solidFill>
                <a:srgbClr val="000000"/>
              </a:solidFill>
              <a:latin typeface="Arial"/>
            </a:endParaRPr>
          </a:p>
          <a:p>
            <a:pPr indent="0" algn="just">
              <a:lnSpc>
                <a:spcPct val="113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indent="0" algn="just">
              <a:lnSpc>
                <a:spcPct val="113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parajita"/>
                <a:ea typeface="Calibri"/>
              </a:rPr>
              <a:t>Open the mail.yahoo.com and click on  “I can’t access my account”</a:t>
            </a:r>
            <a:endParaRPr b="0" lang="en-US" sz="3200" spc="-1" strike="noStrike">
              <a:solidFill>
                <a:srgbClr val="000000"/>
              </a:solidFill>
              <a:latin typeface="Arial"/>
            </a:endParaRPr>
          </a:p>
          <a:p>
            <a:pPr indent="0" algn="just">
              <a:lnSpc>
                <a:spcPct val="113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indent="0" algn="just">
              <a:lnSpc>
                <a:spcPct val="98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parajita"/>
                <a:ea typeface="Calibri"/>
              </a:rPr>
              <a:t>if you are using Yahoo Messenger run it and then click the link labeled as “Forgot Your Password” right at the bottom of your  Yahoo Messenger window.</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parajita"/>
              </a:rPr>
              <a:t>Continue...</a:t>
            </a:r>
            <a:endParaRPr b="0" lang="en-US" sz="4400" spc="-1" strike="noStrike">
              <a:solidFill>
                <a:srgbClr val="000000"/>
              </a:solidFill>
              <a:latin typeface="Arial"/>
            </a:endParaRPr>
          </a:p>
        </p:txBody>
      </p:sp>
      <p:pic>
        <p:nvPicPr>
          <p:cNvPr id="48" name="" descr=""/>
          <p:cNvPicPr/>
          <p:nvPr/>
        </p:nvPicPr>
        <p:blipFill>
          <a:blip r:embed="rId1"/>
          <a:stretch/>
        </p:blipFill>
        <p:spPr>
          <a:xfrm>
            <a:off x="3324240" y="2063880"/>
            <a:ext cx="3419640" cy="3914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parajita"/>
              </a:rPr>
              <a:t>Continue...</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9070920" cy="4989600"/>
          </a:xfrm>
          <a:prstGeom prst="rect">
            <a:avLst/>
          </a:prstGeom>
          <a:noFill/>
          <a:ln w="0">
            <a:noFill/>
          </a:ln>
        </p:spPr>
        <p:txBody>
          <a:bodyPr lIns="0" rIns="0" tIns="7920" bIns="0" anchor="t">
            <a:normAutofit/>
          </a:bodyPr>
          <a:p>
            <a:pPr indent="0">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parajita"/>
                <a:ea typeface="Calibri"/>
              </a:rPr>
              <a:t>on next page select the option “I have Problem with my password” “I forgot my password” and click Next.</a:t>
            </a:r>
            <a:endParaRPr b="0" lang="en-US" sz="3200" spc="-1" strike="noStrike">
              <a:solidFill>
                <a:srgbClr val="000000"/>
              </a:solidFill>
              <a:latin typeface="Arial"/>
            </a:endParaRPr>
          </a:p>
          <a:p>
            <a:pPr indent="0">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241720" y="3108240"/>
            <a:ext cx="5715000" cy="2409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parajita"/>
              </a:rPr>
              <a:t>Continue...</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9070920" cy="4989600"/>
          </a:xfrm>
          <a:prstGeom prst="rect">
            <a:avLst/>
          </a:prstGeom>
          <a:noFill/>
          <a:ln w="0">
            <a:noFill/>
          </a:ln>
        </p:spPr>
        <p:txBody>
          <a:bodyPr lIns="0" rIns="0" tIns="7920" bIns="0" anchor="t">
            <a:normAutofit/>
          </a:bodyPr>
          <a:p>
            <a:pPr indent="0" algn="just">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parajita"/>
                <a:ea typeface="Calibri"/>
              </a:rPr>
              <a:t>There you will be asked for your Yahoo ID and to enter the word-verification code generated below. Give it, and click Next.</a:t>
            </a:r>
            <a:endParaRPr b="0" lang="en-US" sz="3200" spc="-1" strike="noStrike">
              <a:solidFill>
                <a:srgbClr val="000000"/>
              </a:solidFill>
              <a:latin typeface="Arial"/>
            </a:endParaRPr>
          </a:p>
          <a:p>
            <a:pPr indent="0" algn="just">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2103480" y="3133800"/>
            <a:ext cx="5715000" cy="2352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parajita"/>
              </a:rPr>
              <a:t>Continue...</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9070920" cy="4989600"/>
          </a:xfrm>
          <a:prstGeom prst="rect">
            <a:avLst/>
          </a:prstGeom>
          <a:noFill/>
          <a:ln w="0">
            <a:noFill/>
          </a:ln>
        </p:spPr>
        <p:txBody>
          <a:bodyPr lIns="0" rIns="0" tIns="7920" bIns="0" anchor="t">
            <a:normAutofit/>
          </a:bodyPr>
          <a:p>
            <a:pPr indent="0" algn="just">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parajita"/>
                <a:ea typeface="Calibri"/>
              </a:rPr>
              <a:t>Give your alternate email address that you given at signup time, Yahoo will send your password on that email. Note: like your other web service company. (mojjo@hotmail.com) or you can choose second method “i can’t access any of the above (Secret Question method)” Click Next.</a:t>
            </a:r>
            <a:endParaRPr b="0" lang="en-US" sz="3200" spc="-1" strike="noStrike">
              <a:solidFill>
                <a:srgbClr val="000000"/>
              </a:solidFill>
              <a:latin typeface="Arial"/>
            </a:endParaRPr>
          </a:p>
          <a:p>
            <a:pPr indent="0" algn="just">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2149560" y="4389480"/>
            <a:ext cx="5715000" cy="2514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parajita"/>
              </a:rPr>
              <a:t>Continue...</a:t>
            </a:r>
            <a:endParaRPr b="0" lang="en-US" sz="4400" spc="-1" strike="noStrike">
              <a:solidFill>
                <a:srgbClr val="000000"/>
              </a:solidFill>
              <a:latin typeface="Arial"/>
            </a:endParaRPr>
          </a:p>
        </p:txBody>
      </p:sp>
      <p:sp>
        <p:nvSpPr>
          <p:cNvPr id="59" name="PlaceHolder 2"/>
          <p:cNvSpPr>
            <a:spLocks noGrp="1"/>
          </p:cNvSpPr>
          <p:nvPr>
            <p:ph/>
          </p:nvPr>
        </p:nvSpPr>
        <p:spPr>
          <a:xfrm>
            <a:off x="502920" y="1768320"/>
            <a:ext cx="9070920" cy="4989600"/>
          </a:xfrm>
          <a:prstGeom prst="rect">
            <a:avLst/>
          </a:prstGeom>
          <a:noFill/>
          <a:ln w="0">
            <a:noFill/>
          </a:ln>
        </p:spPr>
        <p:txBody>
          <a:bodyPr lIns="0" rIns="0" tIns="7920" bIns="0" anchor="t">
            <a:normAutofit/>
          </a:bodyPr>
          <a:p>
            <a:pPr indent="0" algn="just">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parajita"/>
                <a:ea typeface="Calibri"/>
              </a:rPr>
              <a:t>Your password will be sent to your email account you entered in the previous page within few seconds. Visit your email account (previously mentioned), follow the instruction in the email and you are done.</a:t>
            </a:r>
            <a:endParaRPr b="0" lang="en-US" sz="3200" spc="-1" strike="noStrike">
              <a:solidFill>
                <a:srgbClr val="000000"/>
              </a:solidFill>
              <a:latin typeface="Arial"/>
            </a:endParaRPr>
          </a:p>
          <a:p>
            <a:pPr indent="0" algn="just">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indent="0" algn="just">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1920960" y="4114800"/>
            <a:ext cx="6308640" cy="2293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parajita"/>
              </a:rPr>
              <a:t>Thank You </a:t>
            </a:r>
            <a:r>
              <a:rPr b="0" lang="en-US" sz="4400" spc="-1" strike="noStrike" baseline="-33000">
                <a:solidFill>
                  <a:srgbClr val="000000"/>
                </a:solidFill>
                <a:latin typeface="Aparajita"/>
              </a:rPr>
              <a:t>1844 780 6751</a:t>
            </a:r>
            <a:endParaRPr b="0" lang="en-US" sz="4400" spc="-1" strike="noStrike">
              <a:solidFill>
                <a:srgbClr val="000000"/>
              </a:solidFill>
              <a:latin typeface="Arial"/>
            </a:endParaRPr>
          </a:p>
        </p:txBody>
      </p:sp>
      <p:pic>
        <p:nvPicPr>
          <p:cNvPr id="62" name="" descr=""/>
          <p:cNvPicPr/>
          <p:nvPr/>
        </p:nvPicPr>
        <p:blipFill>
          <a:blip r:embed="rId1"/>
          <a:stretch/>
        </p:blipFill>
        <p:spPr>
          <a:xfrm>
            <a:off x="0" y="1665360"/>
            <a:ext cx="10078920" cy="537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3T04:34:40Z</dcterms:created>
  <dc:creator/>
  <dc:description/>
  <dc:language>en-US</dc:language>
  <cp:lastModifiedBy/>
  <dcterms:modified xsi:type="dcterms:W3CDTF">2016-12-03T05:09:04Z</dcterms:modified>
  <cp:revision>35</cp:revision>
  <dc:subject/>
  <dc:title/>
</cp:coreProperties>
</file>