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B67-CB2A-4371-950D-2D39F901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1FE-2E14-48B1-9AC4-A9D5F6E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6BC-E743-4A6E-A829-E8F879D3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9C5-1F86-4B4B-B691-DB8B81CE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C3E-25F7-401B-84D4-230A1CF9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C15-5CFA-4385-BD41-FBA2DAB1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F2B-3B9F-4E77-8A67-710A39D8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2DC-02DB-47DA-B025-A7A5A9C3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4F2-C86C-41E3-B982-EC1E7B72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289-DE73-472D-B9E5-9C6ED4E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B06-57A3-4C61-B748-481BA427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C8C-2A5B-46B9-A900-229EFCA6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F376-258E-4C19-8680-C10502FB9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ter Wor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58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41640" y="260280"/>
            <a:ext cx="480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243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243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700200"/>
            <a:ext cx="76197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04880"/>
            <a:ext cx="76197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00200"/>
            <a:ext cx="76197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700200"/>
            <a:ext cx="76197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704880"/>
            <a:ext cx="76197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35100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6:12:03Z</dcterms:created>
  <dc:creator>Anna</dc:creator>
  <dc:description/>
  <dc:language>en-US</dc:language>
  <cp:lastModifiedBy>Smets</cp:lastModifiedBy>
  <dcterms:modified xsi:type="dcterms:W3CDTF">2008-10-09T19:25:27Z</dcterms:modified>
  <cp:revision>8</cp:revision>
  <dc:subject/>
  <dc:title>TITLE</dc:title>
</cp:coreProperties>
</file>