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BF8-E050-472F-A61D-4588227F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23B-BB72-4A1C-8C4C-48E530E9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62E-6BA1-47C4-B4D9-48341872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5A5-9965-42DD-80EF-B49D5140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B81-D57B-4EDE-8FFF-5F902829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DE9-DD20-4BB5-A930-71A02248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FF6-C84E-4D00-970F-97DEEB5F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6B0-4F05-45CB-8B3D-08982A91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F26-5E51-469C-B12C-8DC3D0C0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0F20-7173-4FB0-B40E-9F02A6C5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C93-2C1A-4F38-AAB2-809EC62A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302-50C9-44BC-BD7C-471B7265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EDF0-89BB-4258-ACD4-575C75AAF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ter Wor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45864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41640" y="260280"/>
            <a:ext cx="4806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243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243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53440" cy="626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700200"/>
            <a:ext cx="76197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714240"/>
            <a:ext cx="76197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704880"/>
            <a:ext cx="76197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700200"/>
            <a:ext cx="76197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714240"/>
            <a:ext cx="76197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700200"/>
            <a:ext cx="76197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704880"/>
            <a:ext cx="76197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351000"/>
            <a:ext cx="79912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16:12:03Z</dcterms:created>
  <dc:creator>Anna</dc:creator>
  <dc:description/>
  <dc:language>en-US</dc:language>
  <cp:lastModifiedBy>Smets</cp:lastModifiedBy>
  <dcterms:modified xsi:type="dcterms:W3CDTF">2008-10-09T19:25:27Z</dcterms:modified>
  <cp:revision>8</cp:revision>
  <dc:subject/>
  <dc:title>TITLE</dc:title>
</cp:coreProperties>
</file>